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DD9-FF94-43C7-9DC5-D47CB076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94E-D0D2-489A-86B6-B909FD57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4F3-6EF4-48AB-AF10-0BB52BAF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401-2755-43CD-AE41-0FAAD471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5788-B2AD-4D07-9BDF-FB9DD5D6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8D77-64F9-47E0-B77E-5B7776D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9A29-A733-4CB2-8131-D4F8EF8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B2DF-D4BD-4911-AFD2-D317C573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4E14-2CAA-4E6E-81AB-950012E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1107-7125-4225-AA2D-BA30EF6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BE70-03F4-41F5-AAE1-9475E3B8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F48-7C67-40F4-8B45-1C4CB324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76AD-D8CB-4126-9FA8-EBA113B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E15C-FC5D-4BDB-8295-815A9675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8E22-CC88-4BC0-A6BC-6F6176D3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7F60-0BC2-448D-90B5-59B26AB9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DA49-B77C-4968-AF82-CBB4590F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9AC0-ECC9-4B2C-A8B1-F9DDFB7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71DD-59CA-43E3-8079-A18D478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7D14-715A-4F75-91CE-071E2A36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71B1-3945-427A-9236-83BFAD8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5007-BEC4-4EFB-AF39-76283AB6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D4B-43CA-494E-9F7B-7AC2B22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89A3-208F-474D-A5C9-3307E78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7709-CFCD-43D9-A8F8-73EBDB2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5B71-33DE-448C-872A-62A2515E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47F8-B416-4145-A788-9037DE4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A3D7-0E54-43F3-8715-5BCF1408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E31C-08BB-4677-B93C-8D0C18E9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9FB9-10AF-4CE9-85BC-99F9C9B8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B2CA-D113-4EEF-9B42-BA516C63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DA7E-F9C8-4E31-BB2B-C7ED9686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90D8-D3B5-467A-B46C-695C23C0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D86-028A-48F9-BC74-619A9AB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21D71-1C33-440E-8A06-52AA12E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6FAE-2009-4197-806D-0A0B952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1F4AA-9C4A-4D9E-A98B-E8C373AE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8D49-3F5F-4787-AE6F-014351E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A069-16EF-4B56-9C1E-906794CE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7559-3DEF-40EB-A6D9-48ACF42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C776A-56EF-4B3E-9E95-0E9EF5AB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AF46-E7E9-45A7-B35C-F0B2C20F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5D29-1A75-48B8-8883-D5E5D71B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49AB4-9969-4649-9F42-77E90826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492-8C12-453C-A2F5-C6318F0E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5A26-F05B-4983-B84A-257BEFC0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1DC3A-F683-4EC5-9822-B4ED98A0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BDDC1-32F9-4424-A83C-CBCADAD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384D-5C5D-45E0-806D-75E16062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AA9BF-2F49-47F3-BA55-5834FB20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EF39-35AA-43D3-925F-F930100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65B6-C0CC-4E96-877B-2337966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74B5-DA62-4BFF-BAEB-7DB9E06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E3862-4F7A-4528-A88E-8755D6B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3AA5E-9317-4E4D-997D-040E5E9E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63E-1143-4107-9BFC-E608395F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AEB0-D027-43EA-8EDC-10AA91C2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B1A-1D3D-44E4-BA2E-C15A050C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CEF-B06C-41BE-ABBF-491C160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72B-528A-4DC9-9699-C08C1AB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3C40-BD67-4C63-9FC5-277262CD4C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40E-A545-4CC2-B2B6-534A48D596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7A8E-22AD-456A-9A82-F2C24F5140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7924-ADCC-4BA4-A4FD-30DC1DD0636F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5106-45C5-453D-AADD-B33CC0E824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HUMAN GEOGRAPH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SE ASIA, OCEANIA, AND ANTARCTICA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r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Aboriginal people- hunters and 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Maori- fishing, hunting, and farm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uropean explorers- Australia and NZ in 1700s, Antarctica in 1800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uropean settl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Britain (mostly prisoners); conflict with Aboriginal peop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European hunters and whalers; eventually British control and conflic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too cold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 Na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 and New Zealand part of British Commonweal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oncerns and conflicts about rights and land clai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unsettled, scientific research stations, disputes over claimed territo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at (ranching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tt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costs b/c located far from cit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nufacturing and servi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rocessing farm products, wood, and pap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Government, communication, and tourism service industr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British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immigration from Greece, Italy, and SE As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ive influenc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w Zeal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European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ori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y and coun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Urbaniz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pollution, traffic ja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mall population and lack of indust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anc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good transportation systems and infrastru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ranchers own private planes to tra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cre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utdoor activities- rugby, cricket, soccer, etc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kiing and mountain climb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inese and Indian influence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Mandalas: states organized around as rings of power around a central court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5 powerful states emerged to replace mandala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National identiti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European control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 led to coloni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Routines and regulation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Only produce commodities Europe needed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parked nation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Independence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Japan took over in WWII and put SE Asians in leadership rol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ome gained independence peacefully, some had to fight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sed on agricul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auses: climate, Vietnam War destroyed infrastructure, refugees reduced work force, political turmoil blocks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dustry and fina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SEAN: Association of Southeast Asian Nations; alliance that promotes economic growth and peace in the reg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ate industrialization, but fast manufacturing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industry = processing of agricultural produc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extiles, clothing, electronic devices, and service industrie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ligious divers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m, Catholicism, Islam, Hinduism, local belief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eligious archite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erforming arts (danc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terature (poetry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ll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d houses on stil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t countries- temple serves as center of social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donesia- group of leaders govern by stressing cooper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raditional clot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nveniences slowly changing village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kyscrapers, business districts, apartmen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ortage of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ural disasters threaten makeshift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SE Asians travel by rafts, canoes, and land bridge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Isolatio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3 subregion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icro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ela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oly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Contact with the West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uropean explore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e and religious motiv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iseas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itional life replaced with Western way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Recent history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WWII- battleground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uclear test sit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ome have gained independence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ubsistence activ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economic activ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nly on high islands b/c of soi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nanas, sugar, cocoa, coffee, copra (dried meat of coconut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uris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mited indus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&gt; 1,100 langu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ristianity majority relig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 relig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s and craf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end of traditional, European, and American cultur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olynesia: villages, village chief, fishing, farming, warlik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icronesia: extended family groups, fishing, farming, peacefu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lanesia: coastal villages, fishing, shifting cultivation (moving fields often to allow land to regain fertility), hunter-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iz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ew cities, but grow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antytow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adequate sanit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mmunic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3:41:14Z</dcterms:created>
  <dc:creator>Katie Poe</dc:creator>
  <dc:description/>
  <dc:language>en-US</dc:language>
  <cp:lastModifiedBy>Kurt Guemmer</cp:lastModifiedBy>
  <dcterms:modified xsi:type="dcterms:W3CDTF">2016-03-22T19:26:07Z</dcterms:modified>
  <cp:revision>12</cp:revision>
  <dc:subject/>
  <dc:title>Human Geography</dc:title>
</cp:coreProperties>
</file>