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AA68-6486-46F3-AB37-D6D46274F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18AF-A8CF-4E4A-98CC-F127BE317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2DDE-7ECA-4C12-BBF8-AD61214B5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C8E3-1E8B-440F-8131-AB3DE7D80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49BD3-5C7A-4147-A508-02343D697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590E1-0468-427B-9C60-137465F37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B5A2B-EC25-4BC9-98FD-11F7DE9D0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9E5B2-CB48-4790-AA31-2AD1FA23C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1453B-8CC4-45F2-A650-333288A24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07F52-B5F7-4089-831F-CAC8845B5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05F22-A670-4EE2-A5C2-B2F39A26A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DF85-8E45-4EE7-ADA9-79C716E3F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F26F7-2BD0-4D01-8AFE-3B233E394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3F63A-A518-4B28-BE22-A55531792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7A6FE-B3C3-425C-9ACC-B37A0E47A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8AE7E-42EE-4772-B893-5BA665647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E4F6D-D20B-4088-ABF5-B5EE757DA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2A5CB-56F8-4E46-8899-74A1FCE4A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316E0-1C93-4FDA-A5DC-4937B9F25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B2A56-90C8-45D8-9FCC-21A2C9850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E9467-C341-47A1-B009-63BA2FA1F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0C971-E5A8-40F9-A160-EA64A481A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03EA-8BAB-4A82-ABD5-8B7B1850D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9FE61-F21E-46E7-81D9-A6FF9F2EE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9ADA4-6012-428E-B520-CCA84D98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970DD-2B00-4093-870D-9864AD9F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9B879-C822-4969-8435-1FD69FBD9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20E70-6A18-4933-BCEF-0B8CFCB11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759A0-FF44-4100-B35F-86A2CB543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DBC05-545A-4432-A02E-F1096C711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B66A3-649A-49C4-8D5C-B94238741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88666-F4C8-440A-B754-983D0C9FE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432FA-D1A8-48F0-9D65-97AAB1DA1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BC68-D10F-40CF-AC33-F23CFE3BF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9F32D-CC0D-4FC0-A927-AEF7E5AC1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3B8E0-7140-4432-8F0B-DCE2F9FF2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3D5AC-F041-401F-AB8F-CE49118A1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DA3AD-B4EB-4DF6-BD3D-467C4B73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AF203-501C-4F74-AC5E-36B795CD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08CD9-13DE-4D90-9D50-E71F9735D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85B07-13D8-4B1A-A170-C800E912C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F7A7F-FCF5-41CD-A771-6AF19B505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762E8-AE1D-4C70-848A-261CFD740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169EC2-B1E3-478F-9FA5-F13521456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3499-4F3A-4688-8C6D-B37F1E68B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E086A-258E-4C41-A73A-473761898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69E88F-D38D-4FC0-B5AD-85BAB402E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7B6DD-F5C0-4242-BE54-B816D12ED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900B7F-B4CA-4B56-AEC1-103BD11FE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92F1B-7AD1-4941-8E32-C911073F4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F0FED1-7E6B-4FD3-96D9-675A6DFDC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2F94F-25FD-4F26-A29F-B603638CE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673780-A0FB-4521-B7E3-65C4CD93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C5D350-7A10-41FE-BCC1-C45920390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5769E4-ECD9-4B85-8C8B-112C76068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5AAE-D424-463D-AB5C-06A785293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44E8C7-57BE-412A-BDF2-15B3983D5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9A09-659D-411B-9AC4-5472D6D53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84F7-ED0B-496A-A55D-E15A7574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E046-1A81-4C20-816F-70586045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764F9-DFC4-450F-B5AA-B28C5808AF1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Freeform 9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22397-B16F-4DE4-90BD-CBC6FCF0A25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Right Triangle 9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75697-EEF0-4C0F-9D90-CC09A8EB4D1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Right Triangle 9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81E6A-371D-4DEB-8006-9A5A00A03835}" type="slidenum">
              <a:rPr b="0" lang="en-US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1FB87-E4BD-420C-947F-3294B77D0E7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 rot="19140000">
            <a:off x="817200" y="1729800"/>
            <a:ext cx="5648400" cy="120492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HUMAN GEOGRAPHY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 rot="19140000">
            <a:off x="1212480" y="2469960"/>
            <a:ext cx="6510240" cy="3301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SE ASIA, OCEANIA, AND ANTARCTICA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AUSTRALIA, NEW ZEALAND, ANTARCTICA HISTORY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Early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85560" indent="-1569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Australia: Aboriginal people- hunters and gatherers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85560" indent="-1569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New Zealand: Maori- fishing, hunting, and farming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85560" indent="-1569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European explorers- Australia and NZ in 1700s, Antarctica in 1800s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European settlemen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85560" indent="-1569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Australia: Britain (mostly prisoners); conflict with Aboriginal people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85560" indent="-1569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New Zealand: European hunters and whalers; eventually British control and conflict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85560" indent="-1569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Antarctica: too cold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Modern Nation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85560" indent="-1569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Australia and New Zealand part of British Commonwealth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85560" indent="-1569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Concerns and conflicts about rights and land claims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85560" indent="-1569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Antarctica: unsettled, scientific research stations, disputes over claimed territory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85560" indent="-1569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AUSTRALIA, NEW ZEALAND, ANTARCTICA ECONOMIC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Agricultur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Meat (ranching)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Wool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Butter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Mining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High costs b/c located far from cities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Manufacturing and servic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Processing farm products, wood, and paper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Government, communication, and tourism service industries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AUSTRALIA, NEW ZEALAND, ANTARCTICA CULTUR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Australia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Majority British descent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High immigration from Greece, Italy, and SE Asia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Native influences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New Zealand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Majority European descent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Maori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AUSTRALIA, NEW ZEALAND, ANTARCTICA MODERN LIF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ity and country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Urbanization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Australia: pollution, traffic jams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NZ: small population and lack of industry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Ranching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NZ: good transportation systems and infrastructure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Australia: ranchers own private planes to travel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Recreation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Outdoor activities- rugby, cricket, soccer, etc.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NZ: skiing and mountain climbing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SOUTHEAST ASIA HISTORY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Franklin Gothic Book"/>
              </a:rPr>
              <a:t>Chinese and Indian influences</a:t>
            </a: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Franklin Gothic Book"/>
              </a:rPr>
              <a:t>Mandalas: states organized around as rings of power around a central court</a:t>
            </a: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Franklin Gothic Book"/>
              </a:rPr>
              <a:t>5 powerful states emerged to replace mandalas</a:t>
            </a: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89520" indent="-1587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anklin Gothic Book"/>
              </a:rPr>
              <a:t>Trade</a:t>
            </a:r>
            <a:endParaRPr b="0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89520" indent="-1587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anklin Gothic Book"/>
              </a:rPr>
              <a:t>National identities</a:t>
            </a:r>
            <a:endParaRPr b="0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Franklin Gothic Book"/>
              </a:rPr>
              <a:t>European control</a:t>
            </a: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89520" indent="-1587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anklin Gothic Book"/>
              </a:rPr>
              <a:t>Trade led to colonialism</a:t>
            </a:r>
            <a:endParaRPr b="0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89520" indent="-1587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anklin Gothic Book"/>
              </a:rPr>
              <a:t>Routines and regulations</a:t>
            </a:r>
            <a:endParaRPr b="0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89520" indent="-1587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anklin Gothic Book"/>
              </a:rPr>
              <a:t>Only produce commodities Europe needed</a:t>
            </a:r>
            <a:endParaRPr b="0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89520" indent="-1587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anklin Gothic Book"/>
              </a:rPr>
              <a:t>Sparked nationalism</a:t>
            </a:r>
            <a:endParaRPr b="0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Franklin Gothic Book"/>
              </a:rPr>
              <a:t>Independence</a:t>
            </a: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89520" indent="-1587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anklin Gothic Book"/>
              </a:rPr>
              <a:t>Japan took over in WWII and put SE Asians in leadership roles</a:t>
            </a:r>
            <a:endParaRPr b="0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89520" indent="-1587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anklin Gothic Book"/>
              </a:rPr>
              <a:t>Some gained independence peacefully, some had to fight</a:t>
            </a:r>
            <a:endParaRPr b="0" lang="en-US" sz="15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SOUTHEAST ASIA ECONOMIC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raditiona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Based on agriculture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Causes: climate, Vietnam War destroyed infrastructure, refugees reduced work force, political turmoil blocks growth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Industry and financ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ASEAN: Association of Southeast Asian Nations; alliance that promotes economic growth and peace in the region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Late industrialization, but fast manufacturing growth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Main industry = processing of agricultural products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Textiles, clothing, electronic devices, and service industries 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SOUTHEAST ASIA CULTUR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Religious diversity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Buddhism, Catholicism, Islam, Hinduism, local beliefs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Ar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Religious architecture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Performing arts (dance)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Literature (poetry)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SOUTHEAST ASIA MODERN LIF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Village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Majority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Wood houses on stilts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Buddhist countries- temple serves as center of social life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Indonesia- group of leaders govern by stressing cooperation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Traditional clothing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Modern conveniences slowly changing village life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itie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Skyscrapers, business districts, apartments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Shortage of housing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Natural disasters threaten makeshift housing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OCEANIA HISTORY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anklin Gothic Book"/>
              </a:rPr>
              <a:t>SE Asians travel by rafts, canoes, and land bridges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anklin Gothic Book"/>
              </a:rPr>
              <a:t>Isolation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anklin Gothic Book"/>
              </a:rPr>
              <a:t>3 subregions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lnSpc>
                <a:spcPct val="80000"/>
              </a:lnSpc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Micronesia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lnSpc>
                <a:spcPct val="80000"/>
              </a:lnSpc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Melanesia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lnSpc>
                <a:spcPct val="80000"/>
              </a:lnSpc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Polynesia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anklin Gothic Book"/>
              </a:rPr>
              <a:t>Contact with the West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lnSpc>
                <a:spcPct val="80000"/>
              </a:lnSpc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European explorers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lnSpc>
                <a:spcPct val="80000"/>
              </a:lnSpc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Trade and religious motives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lnSpc>
                <a:spcPct val="80000"/>
              </a:lnSpc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Diseases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lnSpc>
                <a:spcPct val="80000"/>
              </a:lnSpc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Traditional life replaced with Western ways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anklin Gothic Book"/>
              </a:rPr>
              <a:t>Recent history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lnSpc>
                <a:spcPct val="80000"/>
              </a:lnSpc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WWII- battleground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lnSpc>
                <a:spcPct val="80000"/>
              </a:lnSpc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Nuclear test sites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lnSpc>
                <a:spcPct val="80000"/>
              </a:lnSpc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Some have gained independence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OCEANIA ECONOMIC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ubsistence activitie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Agricultur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Main economic activity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Only on high islands b/c of soil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Bananas, sugar, cocoa, coffee, copra (dried meat of coconuts)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shing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ourism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Mining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Limited industry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OCEANIA CULTUR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&gt; 1,100 language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hristianity majority religion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raditional religion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Arts and craft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Blend of traditional, European, and American culture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OCEANIA MODERN LIF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raditiona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Polynesia: villages, village chief, fishing, farming, warlike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Micronesia: extended family groups, fishing, farming, peaceful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Melanesia: coastal villages, fishing, shifting cultivation (moving fields often to allow land to regain fertility), hunter-gatherers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Modernization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Few cities, but growing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Shantytowns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Inadequate sanitation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Modern communication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8T13:41:14Z</dcterms:created>
  <dc:creator>Katie Poe</dc:creator>
  <dc:description/>
  <dc:language>en-US</dc:language>
  <cp:lastModifiedBy>Kurt Guemmer</cp:lastModifiedBy>
  <dcterms:modified xsi:type="dcterms:W3CDTF">2016-03-22T19:26:07Z</dcterms:modified>
  <cp:revision>12</cp:revision>
  <dc:subject/>
  <dc:title>Human Geography</dc:title>
</cp:coreProperties>
</file>