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699-8FB5-4080-8E6D-EFBC8592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92B-D599-4350-A245-FD2CF117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9E9-FA45-444A-BCF9-0603AB11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1454-D6E1-488C-98C4-6207A31C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81C1-F14E-48A8-8F48-11FAE0D1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CEE8-842E-4A8E-9B33-B97BB243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876B-7953-4893-8D23-7C11E35D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1E00-7F04-4C68-8FF0-632CDB19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EA66-4C8E-47D2-80D9-780C72FF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6221-6412-436A-A8EB-A19CCEEE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6D42-2238-4DFB-845F-AAB643E0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FA7-82CE-4C1A-A82E-6296EE2B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02FC-97B7-44AA-BB99-2AFFC7F0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AD34-0E02-4844-BC4A-2A1A4AA0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48D2-5A97-4103-8A64-E658C530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B302-0A0F-470F-9D9E-DA083110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4350-CD29-4EA0-908B-FBA7A05C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0F9E3-0190-4AFF-B30C-77060988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7B803-B629-4423-9CF5-678956CA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B67C1-EF5B-4BEC-9826-DFD48BF7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57205-64F0-496F-A311-48246EF7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335DD-50DF-48B9-AE73-9612C5DF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2B0-00AF-49FD-B6BD-9327AF5B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47824-4AAE-4967-861A-17ED61A2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27166-F4C5-4420-932D-AB0709B4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E110-7CE8-4E7B-882F-B3E19DC7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8457C-D314-4E45-B295-19DE27C9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C6A45-4B5A-4916-91D2-5BC9B4A5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4184A-4A3A-48E8-9FD1-2E7D1E67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CF24C-33C9-4491-B1BF-5D0F54B6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8838D-A672-44EF-920E-D2DE5515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CFEDE-C0BE-443D-A0B5-CD7D6DF6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7E6A2-D2BD-4E79-AEF0-166A972F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A7F-C8F5-431A-A927-A12B2499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BC5CC-EC65-4818-9F17-2EB7965D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F7B23-9508-4536-83B0-F34A74FB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79E26-75E5-4BD8-887B-222EDD50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7D622-9B49-4F2D-AF53-CDB649BA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644D1-45FB-452B-9C19-11DB412A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0B18E-AC82-4A17-89C8-CE2D51A2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34292-0646-4521-8AE6-13AB7A32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51FF3-7A34-43CA-8258-83A7290D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8A822-85EC-4E22-97DD-7B49E5A0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BE38D-FB85-4CC9-868A-F84804FD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FDB-88EE-4ADC-89E6-78E61BE6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18D76-1646-4A00-977A-312FFEA5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CBE46-0C53-4AEF-8DB1-E1D346E7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DC07A-EA41-4EFB-801A-3ACB42D0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268E0-3D4B-4519-ADFC-74B533D0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C3A89-E662-4408-A0AD-2E48D17D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34061-0D29-4B80-95E7-FC196AE7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191B6-FF11-4C82-8BB6-40951386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D8DEE-916C-491D-9EF2-5DCB3462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CB75D-7CAC-4008-B1DE-05982EDF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1445E-21C8-445F-8EB8-82AB20ED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679-2263-4477-95CA-859878DD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04495-6F63-43D5-982C-8630ABF3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601-8093-4345-BB9D-A7EA9866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19B-7A6A-4896-879E-A7A524F0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F95-8DB1-4973-8FB5-F81B5219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1F8B-E186-44DF-96FD-BA657561CB6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0A98-5F58-4CF9-B296-9BE552B438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3F91-E2DB-41BD-83C9-7837E4DADD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C7E0-9C01-477C-840E-D2AEA98924B9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52E6-2FD9-41EC-AA71-75813293CFE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HUMAN GEOGRAPHY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SE ASIA, OCEANIA, AND ANTARCTICA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USTRALIA, NEW ZEALAND, ANTARCTICA HISTOR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arl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ustralia: Aboriginal people- hunters and gatherer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ew Zealand: Maori- fishing, hunting, and farm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European explorers- Australia and NZ in 1700s, Antarctica in 1800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uropean settlemen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ustralia: Britain (mostly prisoners); conflict with Aboriginal peopl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ew Zealand: European hunters and whalers; eventually British control and conflic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ntarctica: too cold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dern Natio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ustralia and New Zealand part of British Commonwealth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Concerns and conflicts about rights and land claim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ntarctica: unsettled, scientific research stations, disputes over claimed territor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5560" indent="-1569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USTRALIA, NEW ZEALAND, ANTARCTICA ECONOMIC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gricultur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eat (ranching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Woo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Butter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in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igh costs b/c located far from citie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anufacturing and servic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Processing farm products, wood, and paper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Government, communication, and tourism service industrie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USTRALIA, NEW ZEALAND, ANTARCTICA CULTUR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ustralia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jority British descen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igh immigration from Greece, Italy, and SE Asi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ative influence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New Zealan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jority European descen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ori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USTRALIA, NEW ZEALAND, ANTARCTICA MODERN LIF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ity and countr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Urbanizat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ustralia: pollution, traffic jam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Z: small population and lack of industr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Ranch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Z: good transportation systems and infrastructur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ustralia: ranchers own private planes to tra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crea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Outdoor activities- rugby, cricket, soccer, etc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Z: skiing and mountain climb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OUTHEAST ASIA HISTOR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Chinese and Indian influences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Mandalas: states organized around as rings of power around a central court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5 powerful states emerged to replace mandalas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Trade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National identities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European control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Trade led to colonialism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Routines and regulations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Only produce commodities Europe needed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Sparked nationalism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Independence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Japan took over in WWII and put SE Asians in leadership roles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Some gained independence peacefully, some had to fight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OUTHEAST ASIA ECONOMIC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raditiona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Based on agricultur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Causes: climate, Vietnam War destroyed infrastructure, refugees reduced work force, political turmoil blocks growth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dustry and financ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ASEAN: Association of Southeast Asian Nations; alliance that promotes economic growth and peace in the reg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Late industrialization, but fast manufacturing growth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in industry = processing of agricultural product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Textiles, clothing, electronic devices, and service industries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OUTHEAST ASIA CULTUR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ligious diversit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Buddhism, Catholicism, Islam, Hinduism, local belief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Religious architectur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Performing arts (dance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Literature (poetry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OUTHEAST ASIA MODERN LIF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Villag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jorit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Wood houses on stilt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Buddhist countries- temple serves as center of social lif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Indonesia- group of leaders govern by stressing cooperat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Traditional cloth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odern conveniences slowly changing village lif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iti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kyscrapers, business districts, apartment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hortage of hous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atural disasters threaten makeshift hous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CEANIA HISTOR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SE Asians travel by rafts, canoes, and land bridges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Isolation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3 subregions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Micronesia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Melanesia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Polynesia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Contact with the West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European explorer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Trade and religious motive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Disease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Traditional life replaced with Western way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Recent history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WWII- battleground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Nuclear test site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lnSpc>
                <a:spcPct val="8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Some have gained independence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CEANIA ECONOMIC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ubsistence activiti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gricultur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in economic activit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Only on high islands b/c of soi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Bananas, sugar, cocoa, coffee, copra (dried meat of coconut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sh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ouris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in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imited industr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CEANIA CULTUR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&gt; 1,100 languag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ristianity majority relig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raditional religio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ts and craf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lend of traditional, European, and American cultur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CEANIA MODERN LIF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raditiona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Polynesia: villages, village chief, fishing, farming, warlik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icronesia: extended family groups, fishing, farming, peacefu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elanesia: coastal villages, fishing, shifting cultivation (moving fields often to allow land to regain fertility), hunter-gatherer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derniza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Few cities, but grow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hantytow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Inadequate sanitat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odern communicat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13:41:14Z</dcterms:created>
  <dc:creator>Katie Poe</dc:creator>
  <dc:description/>
  <dc:language>en-US</dc:language>
  <cp:lastModifiedBy>Kurt Guemmer</cp:lastModifiedBy>
  <dcterms:modified xsi:type="dcterms:W3CDTF">2016-03-22T19:26:07Z</dcterms:modified>
  <cp:revision>12</cp:revision>
  <dc:subject/>
  <dc:title>Human Geography</dc:title>
</cp:coreProperties>
</file>