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79C-4B06-4432-A6C8-8570F725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B4B1-6A3F-42C0-B7B2-AA234CAD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0A05-F4C4-4060-B1B9-E6D8E4DB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A16E-46CD-401C-B409-D27044E0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6FED-211D-4159-900C-C674B85C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1167-AA28-4C9F-8771-99B17478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AD0C-6353-435E-84FA-8CF818BB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C9B7-DDEF-4238-A11F-E7118F5F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3C52-BBE7-4E15-BD91-B11647FC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FBB0-15A0-4945-9A0F-21C54D95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167A-D49D-458C-94A8-94874495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CD2-DF26-4F30-A5A7-6825C0B6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FCCB-289B-4B8F-A26E-BC00A4D4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2878-A0AD-4A08-9E02-B7835A05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4350-D9BF-40FD-9559-AA4BA66D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F9F2-541E-4B85-B656-C5ABCEB5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155E-021F-4C20-B728-E7D2A9A2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D9FBD-136B-4356-88B8-E7B7595D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1C8E5-0708-427B-B14E-E8A00566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9FC16-704A-40D4-A495-178EDD3F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4FC66-BF4C-4EE3-87C5-B06EB2E3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22A0E-E9AF-4969-8FB4-0200EF9B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7B43-1F26-4B5A-AD82-207AE12C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4BAC2-FA50-49FB-9FBB-A71F2ADF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E10FA-B941-4C91-8B8F-36BBF5EF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84C99-0689-4112-90C5-57031DA2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E0A6C-B11F-4075-B73A-F8F9B2EE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A617F-F42E-4F02-9218-DC7226EE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9D6C0-7951-45CF-9EE5-19303741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28C3D-EAE9-4438-83C8-C8A6DF21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E4EBE-08F3-4CDB-AAC2-F1E28F6B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547B0-20E5-4FC3-9E50-CB87D2AB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2EF69-5C46-45E4-9F32-C51ADE04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364F-82DE-4768-BE6C-229706F3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E4D46-6989-4296-88C6-D9F4B15F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D2F87-61AE-4731-B7EB-B4362941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CC132-5E9D-4FCC-A951-46A5158D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C1300-6CD6-4CF3-AE82-C18C13FB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FA00B-473A-412A-AA81-82869F09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E36D2-A5CA-45D4-99AF-D02F79CB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28BA5-A979-40AC-9DA8-BC21BE4F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1F45A-DC0F-4229-A065-F7D01788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B10C2-B20D-4DCE-9B94-59600344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633CC-EE67-406D-81FA-5AF19702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D13-0DC8-4A97-A596-F4DB9DA5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AD84E-5A32-431E-BE0B-60419A03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FA05B-3196-4B76-AFAD-8ABA326C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BAF24-ACB4-4F55-8DC6-F3FA31C2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2268D-A5A2-467E-BA96-FA1ECF13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6423C-17C3-45AA-BA7F-21079176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6497F-E046-4738-8BAE-0B78F771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7A70B-26F3-4C7D-B2D2-64B89997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D2957-3E13-47EE-BC8F-DE39787F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3D109-624C-4703-8860-4D7F2940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B0F00-6F9A-4E02-81D4-76440A0C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B354-293F-4DD3-9200-541FBB09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7D147-EF2C-4E58-AC69-05B79ABB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437A-8456-4735-AB45-E4346366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B24-1EF4-4914-8615-6575E80E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5D4F-73EF-4DBC-AF65-17160F09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0DF5-8A4D-4167-ADF3-35B82198979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441B-18C7-4BAD-A225-B2F5CF9CE43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1990-56AA-4A7C-8BD3-22293059346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BBDC-05B6-4CE5-B645-2D0BFA3D3A67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14D2-A32B-4D14-B9DE-F3503747FD4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HUMAN GEOGRAPHY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SE ASIA, OCEANIA, AND ANTARCTICA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USTRALIA, NEW ZEALAND, ANTARCTICA HISTOR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arl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ustralia: Aboriginal people- hunters and gatherer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ew Zealand: Maori- fishing, hunting, and farm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European explorers- Australia and NZ in 1700s, Antarctica in 1800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uropean settlemen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ustralia: Britain (mostly prisoners); conflict with Aboriginal peopl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ew Zealand: European hunters and whalers; eventually British control and conflic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ntarctica: too cold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dern Natio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ustralia and New Zealand part of British Commonwealth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Concerns and conflicts about rights and land claim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ntarctica: unsettled, scientific research stations, disputes over claimed territory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USTRALIA, NEW ZEALAND, ANTARCTICA ECONOMIC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gricultur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eat (ranching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Woo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Butter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in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High costs b/c located far from citie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anufacturing and servic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Processing farm products, wood, and paper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Government, communication, and tourism service industrie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USTRALIA, NEW ZEALAND, ANTARCTICA CULTUR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ustralia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jority British descen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High immigration from Greece, Italy, and SE Asi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ative influence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New Zealan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jority European descen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ori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USTRALIA, NEW ZEALAND, ANTARCTICA MODERN LIF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ity and countr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Urbanizati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ustralia: pollution, traffic jam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Z: small population and lack of industry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Ranch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Z: good transportation systems and infrastructur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ustralia: ranchers own private planes to trave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crea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Outdoor activities- rugby, cricket, soccer, etc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Z: skiing and mountain climb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OUTHEAST ASIA HISTOR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Chinese and Indian influences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Mandalas: states organized around as rings of power around a central court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5 powerful states emerged to replace mandalas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Trade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National identities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European control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Trade led to colonialism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Routines and regulations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Only produce commodities Europe needed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Sparked nationalism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Independence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Japan took over in WWII and put SE Asians in leadership roles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Some gained independence peacefully, some had to fight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OUTHEAST ASIA ECONOMIC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raditiona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Based on agricultur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Causes: climate, Vietnam War destroyed infrastructure, refugees reduced work force, political turmoil blocks growth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dustry and financ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SEAN: Association of Southeast Asian Nations; alliance that promotes economic growth and peace in the regi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Late industrialization, but fast manufacturing growth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in industry = processing of agricultural product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Textiles, clothing, electronic devices, and service industries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OUTHEAST ASIA CULTUR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ligious diversit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Buddhism, Catholicism, Islam, Hinduism, local belief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Religious architectur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Performing arts (dance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Literature (poetry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OUTHEAST ASIA MODERN LIF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Villag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jority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Wood houses on stilt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Buddhist countries- temple serves as center of social lif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Indonesia- group of leaders govern by stressing cooperati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Traditional cloth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odern conveniences slowly changing village lif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iti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kyscrapers, business districts, apartment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hortage of hous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atural disasters threaten makeshift hous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OCEANIA HISTOR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SE Asians travel by rafts, canoes, and land bridges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Isolation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3 subregions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Micronesia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Melanesia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Polynesia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Contact with the West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European explorer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Trade and religious motive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Disease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Traditional life replaced with Western way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Recent history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WWII- battleground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Nuclear test site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Some have gained independence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OCEANIA ECONOMIC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ubsistence activiti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gricultur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in economic activity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Only on high islands b/c of soi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Bananas, sugar, cocoa, coffee, copra (dried meat of coconuts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sh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ouris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in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imited industr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OCEANIA CULTUR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&gt; 1,100 languag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hristianity majority relig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raditional religio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ts and craf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lend of traditional, European, and American cultur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OCEANIA MODERN LIF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raditiona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Polynesia: villages, village chief, fishing, farming, warlik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icronesia: extended family groups, fishing, farming, peacefu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elanesia: coastal villages, fishing, shifting cultivation (moving fields often to allow land to regain fertility), hunter-gatherer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derniza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Few cities, but grow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hantytow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Inadequate sanitati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odern communicati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13:41:14Z</dcterms:created>
  <dc:creator>Katie Poe</dc:creator>
  <dc:description/>
  <dc:language>en-US</dc:language>
  <cp:lastModifiedBy>Kurt Guemmer</cp:lastModifiedBy>
  <dcterms:modified xsi:type="dcterms:W3CDTF">2016-03-22T19:26:07Z</dcterms:modified>
  <cp:revision>12</cp:revision>
  <dc:subject/>
  <dc:title>Human Geography</dc:title>
</cp:coreProperties>
</file>