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A7C-6B0A-4363-A5EB-7D80A6BE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B48-4A04-47D2-9CB5-5C7A46E5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B37-553F-4C8D-8C65-C0BB1B6D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66A-8AC4-4EDE-8174-9F32C44F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296-12D8-4CBD-9F1B-D6720FC4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C284-0381-4CCC-8C8E-8370DCE9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A9E-DA58-46CF-A99D-E27B24EA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3F61-F1AB-42A2-9B3C-12B3B87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8B8-178C-49B7-BAEE-55F2CB1B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EF5-B0B3-4EE7-A53D-848ACED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DBD-6B96-4D61-B749-9EDDCB66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564-295D-4A00-B3F1-9B5D230E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22B-295A-4FFE-AE39-47FEB54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E7CA-0671-484E-9150-0E930E1E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4CF-5E3C-4796-9CD1-A2441470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0717-02DA-4644-AF89-A10BBF64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C05-E269-464C-8B06-D8F3732E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F4F-B6A0-474E-9C29-B37DD76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58F-35A0-4722-B0B2-FE92B33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EA6-5ACD-427F-AD56-987B23E5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585-0E4E-4937-A8DA-440847A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DED-E431-4B20-AE96-C0CC236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666-9E47-41DF-9ADE-6BEA8A2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D43-F105-44A0-884D-D77F995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F58F-23A3-477F-9AC4-DFC6D7F7E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3C8C-2EFB-4EA6-A846-68D3B6A18A8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youtube.com/watch?v=lUp9WnLYetg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ustral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2" name="Picture 5" descr="%7B50418ABD-8A62-4A38-A94D-E1FD1E5F736D%7D_Australia"/>
          <p:cNvPicPr/>
          <p:nvPr/>
        </p:nvPicPr>
        <p:blipFill>
          <a:blip r:embed="rId1"/>
          <a:stretch/>
        </p:blipFill>
        <p:spPr>
          <a:xfrm>
            <a:off x="0" y="1447920"/>
            <a:ext cx="4905360" cy="448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ustralia"/>
          <p:cNvPicPr/>
          <p:nvPr/>
        </p:nvPicPr>
        <p:blipFill>
          <a:blip r:embed="rId2"/>
          <a:stretch/>
        </p:blipFill>
        <p:spPr>
          <a:xfrm>
            <a:off x="4543560" y="3505320"/>
            <a:ext cx="4600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01 – Australia gained independence from the British as a separate countr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ite Australian government continued with the persecution of the Aboriginal peopl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10-1970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overnment stole Aboriginal children from their families and attempted to assimilate the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orcibly change them to the white culture (“Kill the Indian, save the man” theory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n as the Stolen Generation with horrible consequenc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files.abovetopsecret.com/files/img/mc4e7c1eaa.jpg"/>
          <p:cNvPicPr/>
          <p:nvPr/>
        </p:nvPicPr>
        <p:blipFill>
          <a:blip r:embed="rId1"/>
          <a:stretch/>
        </p:blipFill>
        <p:spPr>
          <a:xfrm>
            <a:off x="187200" y="533520"/>
            <a:ext cx="876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s://encrypted-tbn0.gstatic.com/images?q=tbn:ANd9GcSoU-4lidJ8kxzEWRQyQt3-aWeL3nInw_wqJT2sJuIqrpBFvFm2"/>
          <p:cNvPicPr/>
          <p:nvPr/>
        </p:nvPicPr>
        <p:blipFill>
          <a:blip r:embed="rId1"/>
          <a:stretch/>
        </p:blipFill>
        <p:spPr>
          <a:xfrm>
            <a:off x="228600" y="493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270c81.medialib.glogster.com/media/26/26cce0c986af07c7bb237f752eab2372729780782fceec92c9b4efa6c98a58d1/rabbit-fence-10101.jpg"/>
          <p:cNvPicPr/>
          <p:nvPr/>
        </p:nvPicPr>
        <p:blipFill>
          <a:blip r:embed="rId2"/>
          <a:stretch/>
        </p:blipFill>
        <p:spPr>
          <a:xfrm>
            <a:off x="6102360" y="152280"/>
            <a:ext cx="2806560" cy="434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3.bp.blogspot.com/_7n3V7bnR9eI/R6bV92bHavI/AAAAAAAABAo/ITiswiRTGY8/s400/Wellphotowebcrop.gif"/>
          <p:cNvPicPr/>
          <p:nvPr/>
        </p:nvPicPr>
        <p:blipFill>
          <a:blip r:embed="rId3"/>
          <a:stretch/>
        </p:blipFill>
        <p:spPr>
          <a:xfrm>
            <a:off x="533520" y="2649600"/>
            <a:ext cx="51814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67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boriginals became official Australian citize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d Rights Act of 1976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gave Aboriginal people the right the land of their reserv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2 Mabo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Confirmed that Aboriginal people had owned the land of Australia before the British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turned the idea of Terra Nulliu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996 Wik Case </a:t>
            </a:r>
            <a:r>
              <a:rPr b="0" lang="en-US" sz="2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Made it possible for Aboriginals to begin claiming land owned by other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riginals to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ost Australians are of British descent; 1% are Aboriginal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es have ancient traditions that are NOT combined with British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continue to have lower education and live in higher poverty due to their persecution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ourism is increasing as Aboriginals begin to share their unique culture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Kata Tjuta (The Olgas) at sunset."/>
          <p:cNvPicPr/>
          <p:nvPr/>
        </p:nvPicPr>
        <p:blipFill>
          <a:blip r:embed="rId1"/>
          <a:stretch/>
        </p:blipFill>
        <p:spPr>
          <a:xfrm>
            <a:off x="3638520" y="609480"/>
            <a:ext cx="5505480" cy="43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hildren talking on a  rock in the Western Desert.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Lightning storm over Perth skyline from Matilda Bay."/>
          <p:cNvPicPr/>
          <p:nvPr/>
        </p:nvPicPr>
        <p:blipFill>
          <a:blip r:embed="rId3"/>
          <a:stretch/>
        </p:blipFill>
        <p:spPr>
          <a:xfrm>
            <a:off x="0" y="3301920"/>
            <a:ext cx="5334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Aerial of heart-shaped reef at  Hardy Reef, near Whitsunday Islands."/>
          <p:cNvPicPr/>
          <p:nvPr/>
        </p:nvPicPr>
        <p:blipFill>
          <a:blip r:embed="rId1"/>
          <a:stretch/>
        </p:blipFill>
        <p:spPr>
          <a:xfrm>
            <a:off x="3733920" y="3251160"/>
            <a:ext cx="5410080" cy="360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ustralia_kangaroo"/>
          <p:cNvPicPr/>
          <p:nvPr/>
        </p:nvPicPr>
        <p:blipFill>
          <a:blip r:embed="rId2"/>
          <a:stretch/>
        </p:blipFill>
        <p:spPr>
          <a:xfrm>
            <a:off x="0" y="0"/>
            <a:ext cx="4114800" cy="37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ustralia022"/>
          <p:cNvPicPr/>
          <p:nvPr/>
        </p:nvPicPr>
        <p:blipFill>
          <a:blip r:embed="rId3"/>
          <a:stretch/>
        </p:blipFill>
        <p:spPr>
          <a:xfrm>
            <a:off x="4572000" y="3049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BN17892_23"/>
          <p:cNvPicPr/>
          <p:nvPr/>
        </p:nvPicPr>
        <p:blipFill>
          <a:blip r:embed="rId4"/>
          <a:stretch/>
        </p:blipFill>
        <p:spPr>
          <a:xfrm>
            <a:off x="0" y="3308400"/>
            <a:ext cx="47242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Austr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have the oldest culture in the worl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Dates back between 40-60,000 years ago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Migrated from Africa about 75,000 years ago. 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Longest occupied piece of land by one group of people outside of Africa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spread throughout Australia into 600 different culture groups or cla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Complex religious beliefs and social structur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 people view the land as the fundamental principle of their culture – how they live and their spiritual belief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Semi-nomadic people with complex hunting and gathering skil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Tracking skills include finding animals, edible plants and water. 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They have endured due to their ability to adapt to their environment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http://panique.com.au/trishansoz/aborigine/images/aborigine_migration.jpg"/>
          <p:cNvPicPr/>
          <p:nvPr/>
        </p:nvPicPr>
        <p:blipFill>
          <a:blip r:embed="rId1"/>
          <a:stretch/>
        </p:blipFill>
        <p:spPr>
          <a:xfrm>
            <a:off x="14400" y="0"/>
            <a:ext cx="571320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lh6.googleusercontent.com/-X6WoS0tBejc/TYmv-e531lI/AAAAAAAAACQ/dr6-2BRrABY/s1600/migration+map.png"/>
          <p:cNvPicPr/>
          <p:nvPr/>
        </p:nvPicPr>
        <p:blipFill>
          <a:blip r:embed="rId2"/>
          <a:stretch/>
        </p:blipFill>
        <p:spPr>
          <a:xfrm>
            <a:off x="3132000" y="2133720"/>
            <a:ext cx="599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Performer playing the didgeridoo for the Mona Mona Mayi Wunba Aboriginal Dancers at the Laura Festival."/>
          <p:cNvPicPr/>
          <p:nvPr/>
        </p:nvPicPr>
        <p:blipFill>
          <a:blip r:embed="rId1"/>
          <a:stretch/>
        </p:blipFill>
        <p:spPr>
          <a:xfrm>
            <a:off x="4267080" y="360684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borig"/>
          <p:cNvPicPr/>
          <p:nvPr/>
        </p:nvPicPr>
        <p:blipFill>
          <a:blip r:embed="rId2"/>
          <a:stretch/>
        </p:blipFill>
        <p:spPr>
          <a:xfrm>
            <a:off x="-1523880" y="0"/>
            <a:ext cx="548640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ustralian%20Aboriginals%202"/>
          <p:cNvPicPr/>
          <p:nvPr/>
        </p:nvPicPr>
        <p:blipFill>
          <a:blip r:embed="rId3"/>
          <a:stretch/>
        </p:blipFill>
        <p:spPr>
          <a:xfrm>
            <a:off x="0" y="3809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boriginal%20Jimmy%20Walkabout_%20pitjantjara_tribe"/>
          <p:cNvPicPr/>
          <p:nvPr/>
        </p:nvPicPr>
        <p:blipFill>
          <a:blip r:embed="rId4"/>
          <a:stretch/>
        </p:blipFill>
        <p:spPr>
          <a:xfrm>
            <a:off x="4572000" y="169920"/>
            <a:ext cx="4572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1-news.softpedia-static.com/images/news2/Who-Are-the-Australian-Aborigines-2.jpg"/>
          <p:cNvPicPr/>
          <p:nvPr/>
        </p:nvPicPr>
        <p:blipFill>
          <a:blip r:embed="rId1"/>
          <a:stretch/>
        </p:blipFill>
        <p:spPr>
          <a:xfrm>
            <a:off x="173160" y="58680"/>
            <a:ext cx="5236920" cy="346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internshipsdownunder.com/images/destination_information/Aboriginals.jpg"/>
          <p:cNvPicPr/>
          <p:nvPr/>
        </p:nvPicPr>
        <p:blipFill>
          <a:blip r:embed="rId2"/>
          <a:stretch/>
        </p:blipFill>
        <p:spPr>
          <a:xfrm>
            <a:off x="3333600" y="3200400"/>
            <a:ext cx="554544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42069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65174"/>
                </a:solidFill>
                <a:uFillTx/>
                <a:latin typeface="Verdana"/>
                <a:hlinkClick r:id="rId3"/>
              </a:rPr>
              <a:t>http://www.youtube.com/watch?v=lUp9WnLYetg&amp;feature=related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zation/Imperi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600-1700s – European explorers came into contact with the Aboriginal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British government declared Australia to be </a:t>
            </a:r>
            <a:r>
              <a:rPr b="0" i="1" lang="en-US" sz="2900" spc="-1" strike="noStrike">
                <a:solidFill>
                  <a:srgbClr val="f8f8f8"/>
                </a:solidFill>
                <a:latin typeface="Times New Roman"/>
              </a:rPr>
              <a:t>Terra Nullius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empty land – unoccupie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f8f8f8"/>
                </a:solidFill>
                <a:uFillTx/>
                <a:latin typeface="Times New Roman"/>
              </a:rPr>
              <a:t>Aboriginals did not use the land the way Westerners did, therefore, the British had the right to take the land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788 Britain began to colonize Australia as a penal colony for prisoner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1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Europeans settled on the most fertile land and began cattle and sheep ranching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ho tried to defend their land but didn’t have the new technology of weapon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Aboriginals were forced by the colonial government to live on reserves </a:t>
            </a:r>
            <a:r>
              <a:rPr b="0" lang="en-US" sz="29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 less productive land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Times New Roman"/>
              </a:rPr>
              <a:t>1851 – discovery of gold brought more whites.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sheep"/>
          <p:cNvPicPr/>
          <p:nvPr/>
        </p:nvPicPr>
        <p:blipFill>
          <a:blip r:embed="rId1"/>
          <a:stretch/>
        </p:blipFill>
        <p:spPr>
          <a:xfrm>
            <a:off x="0" y="0"/>
            <a:ext cx="6734160" cy="448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Old farm house 20km outside of Bothwell, central Tasmania."/>
          <p:cNvPicPr/>
          <p:nvPr/>
        </p:nvPicPr>
        <p:blipFill>
          <a:blip r:embed="rId2"/>
          <a:stretch/>
        </p:blipFill>
        <p:spPr>
          <a:xfrm>
            <a:off x="3505320" y="309888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28:05Z</dcterms:created>
  <dc:creator>Lindsey Barnes</dc:creator>
  <dc:description/>
  <dc:language>en-US</dc:language>
  <cp:lastModifiedBy>Barnes, Lindsey</cp:lastModifiedBy>
  <cp:lastPrinted>2016-01-14T20:25:11Z</cp:lastPrinted>
  <dcterms:modified xsi:type="dcterms:W3CDTF">2016-01-14T20:25:15Z</dcterms:modified>
  <cp:revision>39</cp:revision>
  <dc:subject/>
  <dc:title>Chapter 31, Section 3</dc:title>
</cp:coreProperties>
</file>