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4EF-D9FC-4DA5-8589-93DF08E9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6B0-403C-4089-8617-33E341A8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4DE-71A4-466C-BF49-C2255C7B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F86-8A24-4936-BAD0-045A8FEF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0C29-12E2-4356-95A5-B47C17C4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FB81-502F-4316-B009-35B5C09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0D37-8E54-456B-A9AE-D9EF5D2D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8D44-8B10-49E3-9A2A-1B94A15D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0586-6AAE-4F28-9868-9E242F7C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987D-5402-4EE3-A03B-EE8244D3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1F7A-49E1-4903-984D-F6EA8AA3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FEF-A486-4DC1-91E7-522D8526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EB1C-2B65-4CCB-A0CF-DC3C210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D036-D648-4FEA-AE05-FE82B75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25C-A441-453A-8E07-179E1AF2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71E5-D8FE-40DB-A9F0-E280B763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6196-49A5-4DFE-9591-C3D3A0BB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A2F-CF83-400C-9780-A021EB2C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E52-9C14-4950-8D10-EAAF1C91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DB0-2F5F-41A2-A7B0-BF5A4ECD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4BF-5720-4BB3-B2E0-C6ADC96B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E64-5BF8-444E-A254-3A3DE600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75C-725F-41A4-A572-F66AFB4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9C1-FF48-4AD6-B2D5-4FEEB403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3AC1-3979-4AC3-8AB5-675B7427E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E1B2-7A00-475B-80B6-1ABC0701600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youtube.com/watch?v=lUp9WnLYetg&amp;feature=related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ustrali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2" name="Picture 5" descr="%7B50418ABD-8A62-4A38-A94D-E1FD1E5F736D%7D_Australia"/>
          <p:cNvPicPr/>
          <p:nvPr/>
        </p:nvPicPr>
        <p:blipFill>
          <a:blip r:embed="rId1"/>
          <a:stretch/>
        </p:blipFill>
        <p:spPr>
          <a:xfrm>
            <a:off x="0" y="1447920"/>
            <a:ext cx="4905360" cy="448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ustralia"/>
          <p:cNvPicPr/>
          <p:nvPr/>
        </p:nvPicPr>
        <p:blipFill>
          <a:blip r:embed="rId2"/>
          <a:stretch/>
        </p:blipFill>
        <p:spPr>
          <a:xfrm>
            <a:off x="4543560" y="3505320"/>
            <a:ext cx="4600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01 – Australia gained independence from the British as a separate country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hite Australian government continued with the persecution of the Aboriginal peopl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10-1970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government stole Aboriginal children from their families and attempted to assimilate them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orcibly change them to the white culture (“Kill the Indian, save the man” theory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Known as the Stolen Generation with horrible consequenc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files.abovetopsecret.com/files/img/mc4e7c1eaa.jpg"/>
          <p:cNvPicPr/>
          <p:nvPr/>
        </p:nvPicPr>
        <p:blipFill>
          <a:blip r:embed="rId1"/>
          <a:stretch/>
        </p:blipFill>
        <p:spPr>
          <a:xfrm>
            <a:off x="187200" y="533520"/>
            <a:ext cx="8766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s://encrypted-tbn0.gstatic.com/images?q=tbn:ANd9GcSoU-4lidJ8kxzEWRQyQt3-aWeL3nInw_wqJT2sJuIqrpBFvFm2"/>
          <p:cNvPicPr/>
          <p:nvPr/>
        </p:nvPicPr>
        <p:blipFill>
          <a:blip r:embed="rId1"/>
          <a:stretch/>
        </p:blipFill>
        <p:spPr>
          <a:xfrm>
            <a:off x="228600" y="493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270c81.medialib.glogster.com/media/26/26cce0c986af07c7bb237f752eab2372729780782fceec92c9b4efa6c98a58d1/rabbit-fence-10101.jpg"/>
          <p:cNvPicPr/>
          <p:nvPr/>
        </p:nvPicPr>
        <p:blipFill>
          <a:blip r:embed="rId2"/>
          <a:stretch/>
        </p:blipFill>
        <p:spPr>
          <a:xfrm>
            <a:off x="6102360" y="152280"/>
            <a:ext cx="2806560" cy="434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3.bp.blogspot.com/_7n3V7bnR9eI/R6bV92bHavI/AAAAAAAABAo/ITiswiRTGY8/s400/Wellphotowebcrop.gif"/>
          <p:cNvPicPr/>
          <p:nvPr/>
        </p:nvPicPr>
        <p:blipFill>
          <a:blip r:embed="rId3"/>
          <a:stretch/>
        </p:blipFill>
        <p:spPr>
          <a:xfrm>
            <a:off x="533520" y="2649600"/>
            <a:ext cx="51814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67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Aboriginals became official Australian citizen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and Rights Act of 1976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gave Aboriginal people the right the land of their reserv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92 Mabo Case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Confirmed that Aboriginal people had owned the land of Australia before the British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verturned the idea of Terra Nulliu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96 Wik Case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Made it possible for Aboriginals to begin claiming land owned by other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riginals to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Most Australians are of British descent; 1% are Aboriginal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es have ancient traditions that are NOT combined with British culture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continue to have lower education and live in higher poverty due to their persecution. 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ourism is increasing as Aboriginals begin to share their unique culture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Kata Tjuta (The Olgas) at sunset."/>
          <p:cNvPicPr/>
          <p:nvPr/>
        </p:nvPicPr>
        <p:blipFill>
          <a:blip r:embed="rId1"/>
          <a:stretch/>
        </p:blipFill>
        <p:spPr>
          <a:xfrm>
            <a:off x="3638520" y="609480"/>
            <a:ext cx="5505480" cy="432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hildren talking on a  rock in the Western Desert."/>
          <p:cNvPicPr/>
          <p:nvPr/>
        </p:nvPicPr>
        <p:blipFill>
          <a:blip r:embed="rId2"/>
          <a:stretch/>
        </p:blipFill>
        <p:spPr>
          <a:xfrm>
            <a:off x="0" y="2286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Lightning storm over Perth skyline from Matilda Bay."/>
          <p:cNvPicPr/>
          <p:nvPr/>
        </p:nvPicPr>
        <p:blipFill>
          <a:blip r:embed="rId3"/>
          <a:stretch/>
        </p:blipFill>
        <p:spPr>
          <a:xfrm>
            <a:off x="0" y="3301920"/>
            <a:ext cx="5334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Aerial of heart-shaped reef at  Hardy Reef, near Whitsunday Islands."/>
          <p:cNvPicPr/>
          <p:nvPr/>
        </p:nvPicPr>
        <p:blipFill>
          <a:blip r:embed="rId1"/>
          <a:stretch/>
        </p:blipFill>
        <p:spPr>
          <a:xfrm>
            <a:off x="3733920" y="3251160"/>
            <a:ext cx="5410080" cy="360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ustralia_kangaroo"/>
          <p:cNvPicPr/>
          <p:nvPr/>
        </p:nvPicPr>
        <p:blipFill>
          <a:blip r:embed="rId2"/>
          <a:stretch/>
        </p:blipFill>
        <p:spPr>
          <a:xfrm>
            <a:off x="0" y="0"/>
            <a:ext cx="4114800" cy="370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ustralia022"/>
          <p:cNvPicPr/>
          <p:nvPr/>
        </p:nvPicPr>
        <p:blipFill>
          <a:blip r:embed="rId3"/>
          <a:stretch/>
        </p:blipFill>
        <p:spPr>
          <a:xfrm>
            <a:off x="4572000" y="3049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BN17892_23"/>
          <p:cNvPicPr/>
          <p:nvPr/>
        </p:nvPicPr>
        <p:blipFill>
          <a:blip r:embed="rId4"/>
          <a:stretch/>
        </p:blipFill>
        <p:spPr>
          <a:xfrm>
            <a:off x="0" y="3308400"/>
            <a:ext cx="47242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of Austra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have the oldest culture in the worl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Dates back between 40-60,000 years ago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Migrated from Africa about 75,000 years ago. 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Longest occupied piece of land by one group of people outside of Africa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spread throughout Australia into 600 different culture groups or clan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omplex religious beliefs and social structure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52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view the land as the fundamental principle of their culture – how they live and their spiritual belief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mi-nomadic people with complex hunting and gathering skill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Tracking skills include finding animals, edible plants and water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ey have endured due to their ability to adapt to their environment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http://panique.com.au/trishansoz/aborigine/images/aborigine_migration.jpg"/>
          <p:cNvPicPr/>
          <p:nvPr/>
        </p:nvPicPr>
        <p:blipFill>
          <a:blip r:embed="rId1"/>
          <a:stretch/>
        </p:blipFill>
        <p:spPr>
          <a:xfrm>
            <a:off x="14400" y="0"/>
            <a:ext cx="5713200" cy="419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lh6.googleusercontent.com/-X6WoS0tBejc/TYmv-e531lI/AAAAAAAAACQ/dr6-2BRrABY/s1600/migration+map.png"/>
          <p:cNvPicPr/>
          <p:nvPr/>
        </p:nvPicPr>
        <p:blipFill>
          <a:blip r:embed="rId2"/>
          <a:stretch/>
        </p:blipFill>
        <p:spPr>
          <a:xfrm>
            <a:off x="3132000" y="2133720"/>
            <a:ext cx="599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Performer playing the didgeridoo for the Mona Mona Mayi Wunba Aboriginal Dancers at the Laura Festival."/>
          <p:cNvPicPr/>
          <p:nvPr/>
        </p:nvPicPr>
        <p:blipFill>
          <a:blip r:embed="rId1"/>
          <a:stretch/>
        </p:blipFill>
        <p:spPr>
          <a:xfrm>
            <a:off x="4267080" y="360684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borig"/>
          <p:cNvPicPr/>
          <p:nvPr/>
        </p:nvPicPr>
        <p:blipFill>
          <a:blip r:embed="rId2"/>
          <a:stretch/>
        </p:blipFill>
        <p:spPr>
          <a:xfrm>
            <a:off x="-1523880" y="0"/>
            <a:ext cx="5486400" cy="36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ustralian%20Aboriginals%202"/>
          <p:cNvPicPr/>
          <p:nvPr/>
        </p:nvPicPr>
        <p:blipFill>
          <a:blip r:embed="rId3"/>
          <a:stretch/>
        </p:blipFill>
        <p:spPr>
          <a:xfrm>
            <a:off x="0" y="380988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Aboriginal%20Jimmy%20Walkabout_%20pitjantjara_tribe"/>
          <p:cNvPicPr/>
          <p:nvPr/>
        </p:nvPicPr>
        <p:blipFill>
          <a:blip r:embed="rId4"/>
          <a:stretch/>
        </p:blipFill>
        <p:spPr>
          <a:xfrm>
            <a:off x="4572000" y="169920"/>
            <a:ext cx="4572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i1-news.softpedia-static.com/images/news2/Who-Are-the-Australian-Aborigines-2.jpg"/>
          <p:cNvPicPr/>
          <p:nvPr/>
        </p:nvPicPr>
        <p:blipFill>
          <a:blip r:embed="rId1"/>
          <a:stretch/>
        </p:blipFill>
        <p:spPr>
          <a:xfrm>
            <a:off x="173160" y="58680"/>
            <a:ext cx="5236920" cy="346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internshipsdownunder.com/images/destination_information/Aboriginals.jpg"/>
          <p:cNvPicPr/>
          <p:nvPr/>
        </p:nvPicPr>
        <p:blipFill>
          <a:blip r:embed="rId2"/>
          <a:stretch/>
        </p:blipFill>
        <p:spPr>
          <a:xfrm>
            <a:off x="3333600" y="3200400"/>
            <a:ext cx="5545440" cy="3543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0" y="420696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65174"/>
                </a:solidFill>
                <a:uFillTx/>
                <a:latin typeface="Verdana"/>
                <a:hlinkClick r:id="rId3"/>
              </a:rPr>
              <a:t>http://www.youtube.com/watch?v=lUp9WnLYetg&amp;feature=related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ization/Imperialis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600-1700s – European explorers came into contact with the Aboriginal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British government declared Australia to be </a:t>
            </a:r>
            <a:r>
              <a:rPr b="0" i="1" lang="en-US" sz="2900" spc="-1" strike="noStrike">
                <a:solidFill>
                  <a:srgbClr val="f8f8f8"/>
                </a:solidFill>
                <a:latin typeface="Times New Roman"/>
              </a:rPr>
              <a:t>Terra Nullius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empty land – unoccupie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f8f8f8"/>
                </a:solidFill>
                <a:uFillTx/>
                <a:latin typeface="Times New Roman"/>
              </a:rPr>
              <a:t>Aboriginals did not use the land the way Westerners did, therefore, the British had the right to take the land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788 Britain began to colonize Australia as a penal colony for prisoner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1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Europeans settled on the most fertile land and began cattle and sheep ranching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who tried to defend their land but didn’t have the new technology of weapon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were forced by the colonial government to live on reserves </a:t>
            </a:r>
            <a:r>
              <a:rPr b="0" lang="en-US" sz="29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less productive lan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851 – discovery of gold brought more white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sheep"/>
          <p:cNvPicPr/>
          <p:nvPr/>
        </p:nvPicPr>
        <p:blipFill>
          <a:blip r:embed="rId1"/>
          <a:stretch/>
        </p:blipFill>
        <p:spPr>
          <a:xfrm>
            <a:off x="0" y="0"/>
            <a:ext cx="6734160" cy="448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Old farm house 20km outside of Bothwell, central Tasmania."/>
          <p:cNvPicPr/>
          <p:nvPr/>
        </p:nvPicPr>
        <p:blipFill>
          <a:blip r:embed="rId2"/>
          <a:stretch/>
        </p:blipFill>
        <p:spPr>
          <a:xfrm>
            <a:off x="3505320" y="3098880"/>
            <a:ext cx="5638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28:05Z</dcterms:created>
  <dc:creator>Lindsey Barnes</dc:creator>
  <dc:description/>
  <dc:language>en-US</dc:language>
  <cp:lastModifiedBy>Barnes, Lindsey</cp:lastModifiedBy>
  <cp:lastPrinted>2016-01-14T20:25:11Z</cp:lastPrinted>
  <dcterms:modified xsi:type="dcterms:W3CDTF">2016-01-14T20:25:15Z</dcterms:modified>
  <cp:revision>39</cp:revision>
  <dc:subject/>
  <dc:title>Chapter 31, Section 3</dc:title>
</cp:coreProperties>
</file>