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6.gif" ContentType="image/gif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B7AA-77FE-452D-8362-22DB1B9AF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E8C3-D54B-4CCA-A7C1-BF1317F54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36E2-1D38-4EFD-8163-BF1495103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516B-3176-4E37-A66A-6A3CCCE21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2C8A2-A18A-4141-8670-4DC95C683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D0149-8CD9-4DE9-BD83-80B7F651E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A7073-F5FA-4136-835E-3A3DD416E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FAF0B-EB73-4040-988B-40A4AD143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6F316-5AEE-430E-8489-4D61FB300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CEB4A-41ED-41D0-B6DE-365889E2A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5BB75-0248-40E5-BCBB-8066255E3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303D-006B-49E9-A1B6-FA45FCD34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A6A8F-57BD-47E0-91FE-92D71720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498EF-BA0E-4B75-AC7F-F132BCB5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036D3-5B79-4E3D-8A9F-9C73D8671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DD398-E243-4CF5-B59D-822147E11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900A7-3BB9-4074-81BC-51ECD7B41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166D-1C4F-4FB5-AEF8-D85A02350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7F0C-509E-49E8-8396-9D0386871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B54F-E9A9-4936-A4E3-A7DFD3555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E68F-E53C-45C8-A671-47C467949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CBAC-48E3-4DC1-AF67-EDE92210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0058-A6B0-44B6-A40A-79726090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9F69-B872-44EA-BC59-BA894260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8c8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4651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8c8b9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lvl="2" marL="1143000" indent="-228600">
              <a:spcBef>
                <a:spcPts val="726"/>
              </a:spcBef>
              <a:buClr>
                <a:srgbClr val="ffff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lvl="3" marL="1600200" indent="-228600">
              <a:spcBef>
                <a:spcPts val="726"/>
              </a:spcBef>
              <a:buClr>
                <a:srgbClr val="8c8b9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lvl="4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lvl="5" marL="2057400" indent="-228600">
              <a:spcBef>
                <a:spcPts val="726"/>
              </a:spcBef>
              <a:buClr>
                <a:srgbClr val="f8f8f8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lvl="6" marL="2057400" indent="-228600">
              <a:spcBef>
                <a:spcPts val="726"/>
              </a:spcBef>
              <a:buClr>
                <a:srgbClr val="f8f8f8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B2E99-2050-47BC-BA30-F433B5400B1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8c8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4651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8c8b9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lvl="2" marL="1143000" indent="-228600">
              <a:spcBef>
                <a:spcPts val="726"/>
              </a:spcBef>
              <a:buClr>
                <a:srgbClr val="ffff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lvl="3" marL="1600200" indent="-228600">
              <a:spcBef>
                <a:spcPts val="726"/>
              </a:spcBef>
              <a:buClr>
                <a:srgbClr val="8c8b9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lvl="4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lvl="5" marL="2057400" indent="-228600">
              <a:spcBef>
                <a:spcPts val="726"/>
              </a:spcBef>
              <a:buClr>
                <a:srgbClr val="f8f8f8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lvl="6" marL="2057400" indent="-228600">
              <a:spcBef>
                <a:spcPts val="726"/>
              </a:spcBef>
              <a:buClr>
                <a:srgbClr val="f8f8f8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AE4DC-999A-4803-A7C1-3B03F9C4A481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hyperlink" Target="http://www.youtube.com/watch?v=lUp9WnLYetg&amp;feature=related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Australia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92" name="Picture 5" descr="%7B50418ABD-8A62-4A38-A94D-E1FD1E5F736D%7D_Australia"/>
          <p:cNvPicPr/>
          <p:nvPr/>
        </p:nvPicPr>
        <p:blipFill>
          <a:blip r:embed="rId1"/>
          <a:stretch/>
        </p:blipFill>
        <p:spPr>
          <a:xfrm>
            <a:off x="0" y="1447920"/>
            <a:ext cx="4905360" cy="4486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australia"/>
          <p:cNvPicPr/>
          <p:nvPr/>
        </p:nvPicPr>
        <p:blipFill>
          <a:blip r:embed="rId2"/>
          <a:stretch/>
        </p:blipFill>
        <p:spPr>
          <a:xfrm>
            <a:off x="4543560" y="3505320"/>
            <a:ext cx="460044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1901 – Australia gained independence from the British as a separate country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White Australian government continued with the persecution of the Aboriginal people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1910-1970 </a:t>
            </a:r>
            <a:r>
              <a:rPr b="0" lang="en-US" sz="28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 government stole Aboriginal children from their families and attempted to assimilate them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b9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Forcibly change them to the white culture (“Kill the Indian, save the man” theory)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b9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Known as the Stolen Generation with horrible consequences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http://files.abovetopsecret.com/files/img/mc4e7c1eaa.jpg"/>
          <p:cNvPicPr/>
          <p:nvPr/>
        </p:nvPicPr>
        <p:blipFill>
          <a:blip r:embed="rId1"/>
          <a:stretch/>
        </p:blipFill>
        <p:spPr>
          <a:xfrm>
            <a:off x="187200" y="533520"/>
            <a:ext cx="8766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https://encrypted-tbn0.gstatic.com/images?q=tbn:ANd9GcSoU-4lidJ8kxzEWRQyQt3-aWeL3nInw_wqJT2sJuIqrpBFvFm2"/>
          <p:cNvPicPr/>
          <p:nvPr/>
        </p:nvPicPr>
        <p:blipFill>
          <a:blip r:embed="rId1"/>
          <a:stretch/>
        </p:blipFill>
        <p:spPr>
          <a:xfrm>
            <a:off x="228600" y="49320"/>
            <a:ext cx="3429000" cy="2438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http://270c81.medialib.glogster.com/media/26/26cce0c986af07c7bb237f752eab2372729780782fceec92c9b4efa6c98a58d1/rabbit-fence-10101.jpg"/>
          <p:cNvPicPr/>
          <p:nvPr/>
        </p:nvPicPr>
        <p:blipFill>
          <a:blip r:embed="rId2"/>
          <a:stretch/>
        </p:blipFill>
        <p:spPr>
          <a:xfrm>
            <a:off x="6102360" y="152280"/>
            <a:ext cx="2806560" cy="4340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http://3.bp.blogspot.com/_7n3V7bnR9eI/R6bV92bHavI/AAAAAAAABAo/ITiswiRTGY8/s400/Wellphotowebcrop.gif"/>
          <p:cNvPicPr/>
          <p:nvPr/>
        </p:nvPicPr>
        <p:blipFill>
          <a:blip r:embed="rId3"/>
          <a:stretch/>
        </p:blipFill>
        <p:spPr>
          <a:xfrm>
            <a:off x="533520" y="2649600"/>
            <a:ext cx="5181480" cy="42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56840" y="16002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1967 </a:t>
            </a:r>
            <a:r>
              <a:rPr b="0" lang="en-US" sz="28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 Aboriginals became official Australian citizens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Land Rights Act of 1976 </a:t>
            </a:r>
            <a:r>
              <a:rPr b="0" lang="en-US" sz="28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 gave Aboriginal people the right the land of their reserves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1992 Mabo Case </a:t>
            </a:r>
            <a:r>
              <a:rPr b="0" lang="en-US" sz="28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 Confirmed that Aboriginal people had owned the land of Australia before the British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8c8b9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Overturned the idea of Terra Nullius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8c8b9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1996 Wik Case </a:t>
            </a:r>
            <a:r>
              <a:rPr b="0" lang="en-US" sz="28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 Made it possible for Aboriginals to begin claiming land owned by others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boriginals toda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Most Australians are of British descent; 1% are Aboriginal.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Aborigines have ancient traditions that are NOT combined with British culture.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Aboriginals continue to have lower education and live in higher poverty due to their persecution. 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Tourism is increasing as Aboriginals begin to share their unique culture.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Kata Tjuta (The Olgas) at sunset."/>
          <p:cNvPicPr/>
          <p:nvPr/>
        </p:nvPicPr>
        <p:blipFill>
          <a:blip r:embed="rId1"/>
          <a:stretch/>
        </p:blipFill>
        <p:spPr>
          <a:xfrm>
            <a:off x="3638520" y="609480"/>
            <a:ext cx="5505480" cy="43243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Children talking on a  rock in the Western Desert."/>
          <p:cNvPicPr/>
          <p:nvPr/>
        </p:nvPicPr>
        <p:blipFill>
          <a:blip r:embed="rId2"/>
          <a:stretch/>
        </p:blipFill>
        <p:spPr>
          <a:xfrm>
            <a:off x="0" y="228600"/>
            <a:ext cx="4343400" cy="2895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Lightning storm over Perth skyline from Matilda Bay."/>
          <p:cNvPicPr/>
          <p:nvPr/>
        </p:nvPicPr>
        <p:blipFill>
          <a:blip r:embed="rId3"/>
          <a:stretch/>
        </p:blipFill>
        <p:spPr>
          <a:xfrm>
            <a:off x="0" y="3301920"/>
            <a:ext cx="5334120" cy="35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Aerial of heart-shaped reef at  Hardy Reef, near Whitsunday Islands."/>
          <p:cNvPicPr/>
          <p:nvPr/>
        </p:nvPicPr>
        <p:blipFill>
          <a:blip r:embed="rId1"/>
          <a:stretch/>
        </p:blipFill>
        <p:spPr>
          <a:xfrm>
            <a:off x="3733920" y="3251160"/>
            <a:ext cx="5410080" cy="3606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australia_kangaroo"/>
          <p:cNvPicPr/>
          <p:nvPr/>
        </p:nvPicPr>
        <p:blipFill>
          <a:blip r:embed="rId2"/>
          <a:stretch/>
        </p:blipFill>
        <p:spPr>
          <a:xfrm>
            <a:off x="0" y="0"/>
            <a:ext cx="4114800" cy="37051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Australia022"/>
          <p:cNvPicPr/>
          <p:nvPr/>
        </p:nvPicPr>
        <p:blipFill>
          <a:blip r:embed="rId3"/>
          <a:stretch/>
        </p:blipFill>
        <p:spPr>
          <a:xfrm>
            <a:off x="4572000" y="304920"/>
            <a:ext cx="4343400" cy="3257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BN17892_23"/>
          <p:cNvPicPr/>
          <p:nvPr/>
        </p:nvPicPr>
        <p:blipFill>
          <a:blip r:embed="rId4"/>
          <a:stretch/>
        </p:blipFill>
        <p:spPr>
          <a:xfrm>
            <a:off x="0" y="3308400"/>
            <a:ext cx="472428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istory of Austral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Aboriginal people have the oldest culture in the world.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8c8b9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8f8f8"/>
                </a:solidFill>
                <a:latin typeface="Times New Roman"/>
              </a:rPr>
              <a:t>Dates back between 40-60,000 years ago. </a:t>
            </a:r>
            <a:endParaRPr b="0" lang="en-US" sz="25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Migrated from Africa about 75,000 years ago. 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8c8b9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8f8f8"/>
                </a:solidFill>
                <a:latin typeface="Times New Roman"/>
              </a:rPr>
              <a:t>Longest occupied piece of land by one group of people outside of Africa. </a:t>
            </a:r>
            <a:endParaRPr b="0" lang="en-US" sz="25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Aboriginal people spread throughout Australia into 600 different culture groups or clans.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Complex religious beliefs and social structures.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80520" y="14475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Aboriginal people view the land as the fundamental principle of their culture – how they live and their spiritual beliefs.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marL="339480" indent="-3394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marL="339480" indent="-3394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Semi-nomadic people with complex hunting and gathering skills.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lvl="1" marL="735480" indent="-282960">
              <a:spcBef>
                <a:spcPts val="624"/>
              </a:spcBef>
              <a:buClr>
                <a:srgbClr val="8c8b9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8f8f8"/>
                </a:solidFill>
                <a:latin typeface="Times New Roman"/>
              </a:rPr>
              <a:t>Tracking skills include finding animals, edible plants and water. </a:t>
            </a:r>
            <a:endParaRPr b="0" lang="en-US" sz="2500" spc="-1" strike="noStrike">
              <a:solidFill>
                <a:srgbClr val="f8f8f8"/>
              </a:solidFill>
              <a:latin typeface="Times New Roman"/>
            </a:endParaRPr>
          </a:p>
          <a:p>
            <a:pPr marL="339480" indent="-3394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marL="339480" indent="-3394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They have endured due to their ability to adapt to their environment.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marL="339480" indent="-3394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http://panique.com.au/trishansoz/aborigine/images/aborigine_migration.jpg"/>
          <p:cNvPicPr/>
          <p:nvPr/>
        </p:nvPicPr>
        <p:blipFill>
          <a:blip r:embed="rId1"/>
          <a:stretch/>
        </p:blipFill>
        <p:spPr>
          <a:xfrm>
            <a:off x="14400" y="0"/>
            <a:ext cx="5713200" cy="4191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https://lh6.googleusercontent.com/-X6WoS0tBejc/TYmv-e531lI/AAAAAAAAACQ/dr6-2BRrABY/s1600/migration+map.png"/>
          <p:cNvPicPr/>
          <p:nvPr/>
        </p:nvPicPr>
        <p:blipFill>
          <a:blip r:embed="rId2"/>
          <a:stretch/>
        </p:blipFill>
        <p:spPr>
          <a:xfrm>
            <a:off x="3132000" y="2133720"/>
            <a:ext cx="5997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Performer playing the didgeridoo for the Mona Mona Mayi Wunba Aboriginal Dancers at the Laura Festival."/>
          <p:cNvPicPr/>
          <p:nvPr/>
        </p:nvPicPr>
        <p:blipFill>
          <a:blip r:embed="rId1"/>
          <a:stretch/>
        </p:blipFill>
        <p:spPr>
          <a:xfrm>
            <a:off x="4267080" y="3606840"/>
            <a:ext cx="4876920" cy="32511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aborig"/>
          <p:cNvPicPr/>
          <p:nvPr/>
        </p:nvPicPr>
        <p:blipFill>
          <a:blip r:embed="rId2"/>
          <a:stretch/>
        </p:blipFill>
        <p:spPr>
          <a:xfrm>
            <a:off x="-1523880" y="0"/>
            <a:ext cx="5486400" cy="3638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Australian%20Aboriginals%202"/>
          <p:cNvPicPr/>
          <p:nvPr/>
        </p:nvPicPr>
        <p:blipFill>
          <a:blip r:embed="rId3"/>
          <a:stretch/>
        </p:blipFill>
        <p:spPr>
          <a:xfrm>
            <a:off x="0" y="3809880"/>
            <a:ext cx="4267080" cy="2800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1" descr="Aboriginal%20Jimmy%20Walkabout_%20pitjantjara_tribe"/>
          <p:cNvPicPr/>
          <p:nvPr/>
        </p:nvPicPr>
        <p:blipFill>
          <a:blip r:embed="rId4"/>
          <a:stretch/>
        </p:blipFill>
        <p:spPr>
          <a:xfrm>
            <a:off x="4572000" y="169920"/>
            <a:ext cx="4572000" cy="32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http://i1-news.softpedia-static.com/images/news2/Who-Are-the-Australian-Aborigines-2.jpg"/>
          <p:cNvPicPr/>
          <p:nvPr/>
        </p:nvPicPr>
        <p:blipFill>
          <a:blip r:embed="rId1"/>
          <a:stretch/>
        </p:blipFill>
        <p:spPr>
          <a:xfrm>
            <a:off x="173160" y="58680"/>
            <a:ext cx="5236920" cy="3460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http://www.internshipsdownunder.com/images/destination_information/Aboriginals.jpg"/>
          <p:cNvPicPr/>
          <p:nvPr/>
        </p:nvPicPr>
        <p:blipFill>
          <a:blip r:embed="rId2"/>
          <a:stretch/>
        </p:blipFill>
        <p:spPr>
          <a:xfrm>
            <a:off x="3333600" y="3200400"/>
            <a:ext cx="5545440" cy="354348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"/>
          <p:cNvSpPr/>
          <p:nvPr/>
        </p:nvSpPr>
        <p:spPr>
          <a:xfrm>
            <a:off x="0" y="4206960"/>
            <a:ext cx="45720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465174"/>
                </a:solidFill>
                <a:uFillTx/>
                <a:latin typeface="Verdana"/>
                <a:hlinkClick r:id="rId3"/>
              </a:rPr>
              <a:t>http://www.youtube.com/watch?v=lUp9WnLYetg&amp;feature=related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lonization/Imperialism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8088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1600-1700s – European explorers came into contact with the Aboriginals.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British government declared Australia to be </a:t>
            </a:r>
            <a:r>
              <a:rPr b="0" i="1" lang="en-US" sz="2900" spc="-1" strike="noStrike">
                <a:solidFill>
                  <a:srgbClr val="f8f8f8"/>
                </a:solidFill>
                <a:latin typeface="Times New Roman"/>
              </a:rPr>
              <a:t>Terra Nullius</a:t>
            </a: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 empty land – unoccupied.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8c8b9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 u="sng">
                <a:solidFill>
                  <a:srgbClr val="f8f8f8"/>
                </a:solidFill>
                <a:uFillTx/>
                <a:latin typeface="Times New Roman"/>
              </a:rPr>
              <a:t>Aboriginals did not use the land the way Westerners did, therefore, the British had the right to take the land.</a:t>
            </a:r>
            <a:endParaRPr b="0" lang="en-US" sz="25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1788 Britain began to colonize Australia as a penal colony for prisoners.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09120" y="16765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Europeans settled on the most fertile land and began cattle and sheep ranching.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marL="332640" indent="-3326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marL="332640" indent="-33264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Aboriginals who tried to defend their land but didn’t have the new technology of weapons.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marL="332640" indent="-33264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marL="332640" indent="-33264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Aboriginals were forced by the colonial government to live on reserves </a:t>
            </a:r>
            <a:r>
              <a:rPr b="0" lang="en-US" sz="29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 less productive land.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marL="332640" indent="-3326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marL="332640" indent="-33264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1851 – discovery of gold brought more whites.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marL="332640" indent="-33264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7" descr="sheep"/>
          <p:cNvPicPr/>
          <p:nvPr/>
        </p:nvPicPr>
        <p:blipFill>
          <a:blip r:embed="rId1"/>
          <a:stretch/>
        </p:blipFill>
        <p:spPr>
          <a:xfrm>
            <a:off x="0" y="0"/>
            <a:ext cx="6734160" cy="4486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Old farm house 20km outside of Bothwell, central Tasmania."/>
          <p:cNvPicPr/>
          <p:nvPr/>
        </p:nvPicPr>
        <p:blipFill>
          <a:blip r:embed="rId2"/>
          <a:stretch/>
        </p:blipFill>
        <p:spPr>
          <a:xfrm>
            <a:off x="3505320" y="3098880"/>
            <a:ext cx="563868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3T18:28:05Z</dcterms:created>
  <dc:creator>Lindsey Barnes</dc:creator>
  <dc:description/>
  <dc:language>en-US</dc:language>
  <cp:lastModifiedBy>Barnes, Lindsey</cp:lastModifiedBy>
  <cp:lastPrinted>2016-01-14T20:25:11Z</cp:lastPrinted>
  <dcterms:modified xsi:type="dcterms:W3CDTF">2016-01-14T20:25:15Z</dcterms:modified>
  <cp:revision>39</cp:revision>
  <dc:subject/>
  <dc:title>Chapter 31, Section 3</dc:title>
</cp:coreProperties>
</file>