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FAC-A00B-4FF2-A775-31586CBF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A06-EA77-4E3E-900F-F5C3ABBF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F5C-6EEC-40AD-927F-C0EEDEBB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6C1-A007-4B14-8160-2AF40F95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447D-393B-461E-801B-571A6388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977F-5495-48E0-ADD2-DA0D7DB1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F1A4-7D40-4B22-8577-2C463D8A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2F35-8F8B-45CB-AA95-83482755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C9D2-EB0B-4356-ABAF-83EA977B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492E-EC77-407D-AEF2-CBF58312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286E-CAAC-4158-BE95-ECA3A66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DE7-5AC3-4CD8-A950-328E687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90B7-1C91-4843-96CC-3804C46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77A9-4974-4006-B522-1AA03550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3DB1-74A7-402E-AF47-2ADED3B8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376A-3686-487D-B52B-B2A6BDAB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BF68-9B2A-48C8-97EA-1C29869E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654-9E24-46B4-9F20-FBC6F5FB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91F-D604-4913-A150-3C43740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0DC-EAA7-4960-B284-55CB3508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BDE-BDF2-43F3-B1F2-9E1EB7F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38C-4ACC-47F0-8A43-C96D5BB3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756-8D78-4D4E-8A7D-2AFA528D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6BB-585D-4154-AF3B-99B2C79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89C-CD19-4B5B-8C1E-19D573334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69C-D8A3-42B1-BB70-C21DC2217AF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youtube.com/watch?v=lUp9WnLYetg&amp;feature=related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ustral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2" name="Picture 5" descr="%7B50418ABD-8A62-4A38-A94D-E1FD1E5F736D%7D_Australia"/>
          <p:cNvPicPr/>
          <p:nvPr/>
        </p:nvPicPr>
        <p:blipFill>
          <a:blip r:embed="rId1"/>
          <a:stretch/>
        </p:blipFill>
        <p:spPr>
          <a:xfrm>
            <a:off x="0" y="1447920"/>
            <a:ext cx="4905360" cy="448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ustralia"/>
          <p:cNvPicPr/>
          <p:nvPr/>
        </p:nvPicPr>
        <p:blipFill>
          <a:blip r:embed="rId2"/>
          <a:stretch/>
        </p:blipFill>
        <p:spPr>
          <a:xfrm>
            <a:off x="4543560" y="3505320"/>
            <a:ext cx="4600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01 – Australia gained independence from the British as a separate countr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hite Australian government continued with the persecution of the Aboriginal peopl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10-1970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overnment stole Aboriginal children from their families and attempted to assimilate the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orcibly change them to the white culture (“Kill the Indian, save the man” theory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nown as the Stolen Generation with horrible consequenc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files.abovetopsecret.com/files/img/mc4e7c1eaa.jpg"/>
          <p:cNvPicPr/>
          <p:nvPr/>
        </p:nvPicPr>
        <p:blipFill>
          <a:blip r:embed="rId1"/>
          <a:stretch/>
        </p:blipFill>
        <p:spPr>
          <a:xfrm>
            <a:off x="187200" y="533520"/>
            <a:ext cx="8766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s://encrypted-tbn0.gstatic.com/images?q=tbn:ANd9GcSoU-4lidJ8kxzEWRQyQt3-aWeL3nInw_wqJT2sJuIqrpBFvFm2"/>
          <p:cNvPicPr/>
          <p:nvPr/>
        </p:nvPicPr>
        <p:blipFill>
          <a:blip r:embed="rId1"/>
          <a:stretch/>
        </p:blipFill>
        <p:spPr>
          <a:xfrm>
            <a:off x="228600" y="493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270c81.medialib.glogster.com/media/26/26cce0c986af07c7bb237f752eab2372729780782fceec92c9b4efa6c98a58d1/rabbit-fence-10101.jpg"/>
          <p:cNvPicPr/>
          <p:nvPr/>
        </p:nvPicPr>
        <p:blipFill>
          <a:blip r:embed="rId2"/>
          <a:stretch/>
        </p:blipFill>
        <p:spPr>
          <a:xfrm>
            <a:off x="6102360" y="152280"/>
            <a:ext cx="2806560" cy="434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3.bp.blogspot.com/_7n3V7bnR9eI/R6bV92bHavI/AAAAAAAABAo/ITiswiRTGY8/s400/Wellphotowebcrop.gif"/>
          <p:cNvPicPr/>
          <p:nvPr/>
        </p:nvPicPr>
        <p:blipFill>
          <a:blip r:embed="rId3"/>
          <a:stretch/>
        </p:blipFill>
        <p:spPr>
          <a:xfrm>
            <a:off x="533520" y="2649600"/>
            <a:ext cx="51814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67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Aboriginals became official Australian citizen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d Rights Act of 1976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ave Aboriginal people the right the land of their reserv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2 Mabo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Confirmed that Aboriginal people had owned the land of Australia before the British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turned the idea of Terra Nulliu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6 Wik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Made it possible for Aboriginals to begin claiming land owned by other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riginals to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ost Australians are of British descent; 1% are Aboriginal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es have ancient traditions that are NOT combined with British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continue to have lower education and live in higher poverty due to their persecution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ourism is increasing as Aboriginals begin to share their unique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Kata Tjuta (The Olgas) at sunset."/>
          <p:cNvPicPr/>
          <p:nvPr/>
        </p:nvPicPr>
        <p:blipFill>
          <a:blip r:embed="rId1"/>
          <a:stretch/>
        </p:blipFill>
        <p:spPr>
          <a:xfrm>
            <a:off x="3638520" y="609480"/>
            <a:ext cx="5505480" cy="432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hildren talking on a  rock in the Western Desert."/>
          <p:cNvPicPr/>
          <p:nvPr/>
        </p:nvPicPr>
        <p:blipFill>
          <a:blip r:embed="rId2"/>
          <a:stretch/>
        </p:blipFill>
        <p:spPr>
          <a:xfrm>
            <a:off x="0" y="2286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Lightning storm over Perth skyline from Matilda Bay."/>
          <p:cNvPicPr/>
          <p:nvPr/>
        </p:nvPicPr>
        <p:blipFill>
          <a:blip r:embed="rId3"/>
          <a:stretch/>
        </p:blipFill>
        <p:spPr>
          <a:xfrm>
            <a:off x="0" y="330192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Aerial of heart-shaped reef at  Hardy Reef, near Whitsunday Islands."/>
          <p:cNvPicPr/>
          <p:nvPr/>
        </p:nvPicPr>
        <p:blipFill>
          <a:blip r:embed="rId1"/>
          <a:stretch/>
        </p:blipFill>
        <p:spPr>
          <a:xfrm>
            <a:off x="3733920" y="3251160"/>
            <a:ext cx="5410080" cy="360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ustralia_kangaroo"/>
          <p:cNvPicPr/>
          <p:nvPr/>
        </p:nvPicPr>
        <p:blipFill>
          <a:blip r:embed="rId2"/>
          <a:stretch/>
        </p:blipFill>
        <p:spPr>
          <a:xfrm>
            <a:off x="0" y="0"/>
            <a:ext cx="4114800" cy="370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ustralia022"/>
          <p:cNvPicPr/>
          <p:nvPr/>
        </p:nvPicPr>
        <p:blipFill>
          <a:blip r:embed="rId3"/>
          <a:stretch/>
        </p:blipFill>
        <p:spPr>
          <a:xfrm>
            <a:off x="4572000" y="3049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BN17892_23"/>
          <p:cNvPicPr/>
          <p:nvPr/>
        </p:nvPicPr>
        <p:blipFill>
          <a:blip r:embed="rId4"/>
          <a:stretch/>
        </p:blipFill>
        <p:spPr>
          <a:xfrm>
            <a:off x="0" y="3308400"/>
            <a:ext cx="47242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Austra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have the oldest culture in the worl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Dates back between 40-60,000 years ago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igrated from Africa about 75,000 years ago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Longest occupied piece of land by one group of people outside of Africa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spread throughout Australia into 600 different culture groups or cla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omplex religious beliefs and social structur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52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view the land as the fundamental principle of their culture – how they live and their spiritual belief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mi-nomadic people with complex hunting and gathering skil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Tracking skills include finding animals, edible plants and water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ey have endured due to their ability to adapt to their environment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http://panique.com.au/trishansoz/aborigine/images/aborigine_migration.jpg"/>
          <p:cNvPicPr/>
          <p:nvPr/>
        </p:nvPicPr>
        <p:blipFill>
          <a:blip r:embed="rId1"/>
          <a:stretch/>
        </p:blipFill>
        <p:spPr>
          <a:xfrm>
            <a:off x="14400" y="0"/>
            <a:ext cx="5713200" cy="419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lh6.googleusercontent.com/-X6WoS0tBejc/TYmv-e531lI/AAAAAAAAACQ/dr6-2BRrABY/s1600/migration+map.png"/>
          <p:cNvPicPr/>
          <p:nvPr/>
        </p:nvPicPr>
        <p:blipFill>
          <a:blip r:embed="rId2"/>
          <a:stretch/>
        </p:blipFill>
        <p:spPr>
          <a:xfrm>
            <a:off x="3132000" y="2133720"/>
            <a:ext cx="599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Performer playing the didgeridoo for the Mona Mona Mayi Wunba Aboriginal Dancers at the Laura Festival."/>
          <p:cNvPicPr/>
          <p:nvPr/>
        </p:nvPicPr>
        <p:blipFill>
          <a:blip r:embed="rId1"/>
          <a:stretch/>
        </p:blipFill>
        <p:spPr>
          <a:xfrm>
            <a:off x="4267080" y="360684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borig"/>
          <p:cNvPicPr/>
          <p:nvPr/>
        </p:nvPicPr>
        <p:blipFill>
          <a:blip r:embed="rId2"/>
          <a:stretch/>
        </p:blipFill>
        <p:spPr>
          <a:xfrm>
            <a:off x="-1523880" y="0"/>
            <a:ext cx="548640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ustralian%20Aboriginals%202"/>
          <p:cNvPicPr/>
          <p:nvPr/>
        </p:nvPicPr>
        <p:blipFill>
          <a:blip r:embed="rId3"/>
          <a:stretch/>
        </p:blipFill>
        <p:spPr>
          <a:xfrm>
            <a:off x="0" y="380988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boriginal%20Jimmy%20Walkabout_%20pitjantjara_tribe"/>
          <p:cNvPicPr/>
          <p:nvPr/>
        </p:nvPicPr>
        <p:blipFill>
          <a:blip r:embed="rId4"/>
          <a:stretch/>
        </p:blipFill>
        <p:spPr>
          <a:xfrm>
            <a:off x="4572000" y="169920"/>
            <a:ext cx="4572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i1-news.softpedia-static.com/images/news2/Who-Are-the-Australian-Aborigines-2.jpg"/>
          <p:cNvPicPr/>
          <p:nvPr/>
        </p:nvPicPr>
        <p:blipFill>
          <a:blip r:embed="rId1"/>
          <a:stretch/>
        </p:blipFill>
        <p:spPr>
          <a:xfrm>
            <a:off x="173160" y="58680"/>
            <a:ext cx="5236920" cy="346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internshipsdownunder.com/images/destination_information/Aboriginals.jpg"/>
          <p:cNvPicPr/>
          <p:nvPr/>
        </p:nvPicPr>
        <p:blipFill>
          <a:blip r:embed="rId2"/>
          <a:stretch/>
        </p:blipFill>
        <p:spPr>
          <a:xfrm>
            <a:off x="3333600" y="3200400"/>
            <a:ext cx="5545440" cy="3543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0" y="42069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65174"/>
                </a:solidFill>
                <a:uFillTx/>
                <a:latin typeface="Verdana"/>
                <a:hlinkClick r:id="rId3"/>
              </a:rPr>
              <a:t>http://www.youtube.com/watch?v=lUp9WnLYetg&amp;feature=related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ization/Imperialis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600-1700s – European explorers came into contact with the Aborigina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British government declared Australia to be </a:t>
            </a:r>
            <a:r>
              <a:rPr b="0" i="1" lang="en-US" sz="2900" spc="-1" strike="noStrike">
                <a:solidFill>
                  <a:srgbClr val="f8f8f8"/>
                </a:solidFill>
                <a:latin typeface="Times New Roman"/>
              </a:rPr>
              <a:t>Terra Nullius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empty land – unoccupie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f8f8f8"/>
                </a:solidFill>
                <a:uFillTx/>
                <a:latin typeface="Times New Roman"/>
              </a:rPr>
              <a:t>Aboriginals did not use the land the way Westerners did, therefore, the British had the right to take the land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788 Britain began to colonize Australia as a penal colony for prisoner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1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Europeans settled on the most fertile land and began cattle and sheep ranching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ho tried to defend their land but didn’t have the new technology of weapo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ere forced by the colonial government to live on reserves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less productive lan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851 – discovery of gold brought more whit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sheep"/>
          <p:cNvPicPr/>
          <p:nvPr/>
        </p:nvPicPr>
        <p:blipFill>
          <a:blip r:embed="rId1"/>
          <a:stretch/>
        </p:blipFill>
        <p:spPr>
          <a:xfrm>
            <a:off x="0" y="0"/>
            <a:ext cx="6734160" cy="448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Old farm house 20km outside of Bothwell, central Tasmania."/>
          <p:cNvPicPr/>
          <p:nvPr/>
        </p:nvPicPr>
        <p:blipFill>
          <a:blip r:embed="rId2"/>
          <a:stretch/>
        </p:blipFill>
        <p:spPr>
          <a:xfrm>
            <a:off x="3505320" y="3098880"/>
            <a:ext cx="5638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28:05Z</dcterms:created>
  <dc:creator>Lindsey Barnes</dc:creator>
  <dc:description/>
  <dc:language>en-US</dc:language>
  <cp:lastModifiedBy>Barnes, Lindsey</cp:lastModifiedBy>
  <cp:lastPrinted>2016-01-14T20:25:11Z</cp:lastPrinted>
  <dcterms:modified xsi:type="dcterms:W3CDTF">2016-01-14T20:25:15Z</dcterms:modified>
  <cp:revision>39</cp:revision>
  <dc:subject/>
  <dc:title>Chapter 31, Section 3</dc:title>
</cp:coreProperties>
</file>