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6A6-8C51-4597-AB31-18A4E8A0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28C2-6C30-449C-8ED9-79AD9A9586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289-0352-4142-BE37-045034D2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267-8DEB-42A7-A76B-EA8310B0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1C2-57FE-42FC-8056-EE6EFDA2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0C1-DCB3-4455-A941-2D4728F3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FDA-0C13-4AA4-AE94-1729467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22E-37FD-4C07-8618-DEBDD08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A22-8CA0-4D28-A254-75F1D6A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67F-93C3-4521-B43A-497C6D4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CE6E-8D9B-46A6-8FE8-A35E8F5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7597-D804-4430-BA42-8E370730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972-3A1F-45C0-8B85-8CDF02A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898-41B0-492B-97CC-BBB9419B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AFF-A8B1-4A0C-B20A-E7CFF67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051-A666-489A-90FD-287F71E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829-4935-44CE-9C57-BE5D6D6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352-6B29-4A06-8E0D-4CBEB7C8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B88-616E-4F05-83A3-DABD17B0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5CA-333A-4562-957A-66C07C1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511-DB64-4F13-AB30-E802089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666-2B64-4121-A1FC-902D28F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E23-74C5-4AAA-A48D-999B8F78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87B-EA21-462A-AFE5-9F1DB29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BA7-C771-44BB-B79A-4D6F693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D8A-2B5A-4AEC-8E6F-3A5FEABA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405C-72EA-4E10-AC5A-CB72C213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5ED5-C2ED-4FFF-94D4-BEAA4D3F7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Times New Roman"/>
              </a:rPr>
              <a:t>Nepal and Bhutan</a:t>
            </a:r>
            <a:endParaRPr b="0" lang="en-US" sz="57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22" name="Picture 5" descr="bhutan-flag_0"/>
          <p:cNvPicPr/>
          <p:nvPr/>
        </p:nvPicPr>
        <p:blipFill>
          <a:blip r:embed="rId1"/>
          <a:stretch/>
        </p:blipFill>
        <p:spPr>
          <a:xfrm>
            <a:off x="4495680" y="3352680"/>
            <a:ext cx="429588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epal-flag_1"/>
          <p:cNvPicPr/>
          <p:nvPr/>
        </p:nvPicPr>
        <p:blipFill>
          <a:blip r:embed="rId2"/>
          <a:stretch/>
        </p:blipFill>
        <p:spPr>
          <a:xfrm>
            <a:off x="685800" y="2666880"/>
            <a:ext cx="308628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19520" y="1981080"/>
            <a:ext cx="28954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3e26"/>
                </a:solidFill>
                <a:latin typeface="Verdana"/>
              </a:rPr>
              <a:t>HAND WRITTEN!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ultural Tradition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’s ethnic groups are a mix from India, Nepal and Tib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betan Sherpa are used in mountaineer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hutan remains ethnically isol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 practices both Hinduism and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hutan’s official religion is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folk art, dancing and arch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6629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Nep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1" name="Picture 6" descr="people_nepal"/>
          <p:cNvPicPr/>
          <p:nvPr/>
        </p:nvPicPr>
        <p:blipFill>
          <a:blip r:embed="rId1"/>
          <a:stretch/>
        </p:blipFill>
        <p:spPr>
          <a:xfrm>
            <a:off x="2057400" y="2895480"/>
            <a:ext cx="7086600" cy="374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223195_people_in_nepal____hindu_serie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t_nepal_children_wr"/>
          <p:cNvPicPr/>
          <p:nvPr/>
        </p:nvPicPr>
        <p:blipFill>
          <a:blip r:embed="rId1"/>
          <a:stretch/>
        </p:blipFill>
        <p:spPr>
          <a:xfrm>
            <a:off x="762120" y="990720"/>
            <a:ext cx="7162560" cy="4798800"/>
          </a:xfrm>
          <a:prstGeom prst="rect">
            <a:avLst/>
          </a:prstGeom>
          <a:ln w="0">
            <a:noFill/>
          </a:ln>
        </p:spPr>
      </p:pic>
      <p:sp>
        <p:nvSpPr>
          <p:cNvPr id="15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144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Bhutan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7" name="Picture 10" descr="Bhutan%20people"/>
          <p:cNvPicPr/>
          <p:nvPr/>
        </p:nvPicPr>
        <p:blipFill>
          <a:blip r:embed="rId1"/>
          <a:stretch/>
        </p:blipFill>
        <p:spPr>
          <a:xfrm>
            <a:off x="228600" y="2895480"/>
            <a:ext cx="5667480" cy="376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eople1"/>
          <p:cNvPicPr/>
          <p:nvPr/>
        </p:nvPicPr>
        <p:blipFill>
          <a:blip r:embed="rId2"/>
          <a:stretch/>
        </p:blipFill>
        <p:spPr>
          <a:xfrm>
            <a:off x="4343400" y="121932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bhutan_people_01"/>
          <p:cNvPicPr/>
          <p:nvPr/>
        </p:nvPicPr>
        <p:blipFill>
          <a:blip r:embed="rId1"/>
          <a:stretch/>
        </p:blipFill>
        <p:spPr>
          <a:xfrm>
            <a:off x="0" y="228600"/>
            <a:ext cx="4172040" cy="440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hutan_at_glance"/>
          <p:cNvPicPr/>
          <p:nvPr/>
        </p:nvPicPr>
        <p:blipFill>
          <a:blip r:embed="rId2"/>
          <a:stretch/>
        </p:blipFill>
        <p:spPr>
          <a:xfrm>
            <a:off x="533520" y="3645000"/>
            <a:ext cx="6734160" cy="321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60221431"/>
          <p:cNvPicPr/>
          <p:nvPr/>
        </p:nvPicPr>
        <p:blipFill>
          <a:blip r:embed="rId3"/>
          <a:stretch/>
        </p:blipFill>
        <p:spPr>
          <a:xfrm>
            <a:off x="5105520" y="0"/>
            <a:ext cx="3809880" cy="376236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zongandconvcenter"/>
          <p:cNvPicPr/>
          <p:nvPr/>
        </p:nvPicPr>
        <p:blipFill>
          <a:blip r:embed="rId1"/>
          <a:stretch/>
        </p:blipFill>
        <p:spPr>
          <a:xfrm>
            <a:off x="4495680" y="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T165210A"/>
          <p:cNvPicPr/>
          <p:nvPr/>
        </p:nvPicPr>
        <p:blipFill>
          <a:blip r:embed="rId2"/>
          <a:stretch/>
        </p:blipFill>
        <p:spPr>
          <a:xfrm>
            <a:off x="228600" y="314964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Bhutanese Arche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68" name="Picture 5" descr="54468378_2be75fcaf1"/>
          <p:cNvPicPr/>
          <p:nvPr/>
        </p:nvPicPr>
        <p:blipFill>
          <a:blip r:embed="rId1"/>
          <a:stretch/>
        </p:blipFill>
        <p:spPr>
          <a:xfrm>
            <a:off x="304920" y="1171440"/>
            <a:ext cx="8534160" cy="56865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archery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ports"/>
          <p:cNvPicPr/>
          <p:nvPr/>
        </p:nvPicPr>
        <p:blipFill>
          <a:blip r:embed="rId2"/>
          <a:stretch/>
        </p:blipFill>
        <p:spPr>
          <a:xfrm>
            <a:off x="5537160" y="1828800"/>
            <a:ext cx="3606840" cy="4829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50px-Bhutan_archery"/>
          <p:cNvPicPr/>
          <p:nvPr/>
        </p:nvPicPr>
        <p:blipFill>
          <a:blip r:embed="rId3"/>
          <a:stretch/>
        </p:blipFill>
        <p:spPr>
          <a:xfrm>
            <a:off x="380880" y="4267080"/>
            <a:ext cx="3581640" cy="24066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Nepal Festiv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75" name="Picture 9" descr="42-18638457"/>
          <p:cNvPicPr/>
          <p:nvPr/>
        </p:nvPicPr>
        <p:blipFill>
          <a:blip r:embed="rId1"/>
          <a:stretch/>
        </p:blipFill>
        <p:spPr>
          <a:xfrm>
            <a:off x="2743200" y="278136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elebrating%20buhist%20festival,%20nepal"/>
          <p:cNvPicPr/>
          <p:nvPr/>
        </p:nvPicPr>
        <p:blipFill>
          <a:blip r:embed="rId2"/>
          <a:stretch/>
        </p:blipFill>
        <p:spPr>
          <a:xfrm>
            <a:off x="152280" y="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festival_02"/>
          <p:cNvPicPr/>
          <p:nvPr/>
        </p:nvPicPr>
        <p:blipFill>
          <a:blip r:embed="rId1"/>
          <a:stretch/>
        </p:blipFill>
        <p:spPr>
          <a:xfrm>
            <a:off x="609480" y="3305160"/>
            <a:ext cx="5248440" cy="35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303305622_7be705fa2c"/>
          <p:cNvPicPr/>
          <p:nvPr/>
        </p:nvPicPr>
        <p:blipFill>
          <a:blip r:embed="rId2"/>
          <a:stretch/>
        </p:blipFill>
        <p:spPr>
          <a:xfrm>
            <a:off x="533520" y="2286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4"/>
          <p:cNvPicPr/>
          <p:nvPr/>
        </p:nvPicPr>
        <p:blipFill>
          <a:blip r:embed="rId3"/>
          <a:stretch/>
        </p:blipFill>
        <p:spPr>
          <a:xfrm>
            <a:off x="5810400" y="152280"/>
            <a:ext cx="309564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Mountain Kingdom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geographical feature are the mountains of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gged landscape has created isolation with no access to the s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has impacted the people’s culture tremendous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Himalaya+Mountains"/>
          <p:cNvPicPr/>
          <p:nvPr/>
        </p:nvPicPr>
        <p:blipFill>
          <a:blip r:embed="rId1"/>
          <a:stretch/>
        </p:blipFill>
        <p:spPr>
          <a:xfrm>
            <a:off x="228600" y="228600"/>
            <a:ext cx="4017960" cy="536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ALP"/>
          <p:cNvPicPr/>
          <p:nvPr/>
        </p:nvPicPr>
        <p:blipFill>
          <a:blip r:embed="rId2"/>
          <a:stretch/>
        </p:blipFill>
        <p:spPr>
          <a:xfrm>
            <a:off x="3352680" y="2895480"/>
            <a:ext cx="5534280" cy="362916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and natural progression toward democrac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ily - small religious kingdoms governed by Hindi kings in Nepal and Buddhist priests in Bhut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to monarchies of ruling fam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led to constitutional monarchies in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ft to democracies in 2008 without revolutions or vio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Economie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has limited economic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Buddhist help to avoid a consumer mentality to want “stuf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poor countries with jobs in the agricultural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istence farming – plots are small, soil is poor, and erosion is a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IMG_0330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9108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72398002"/>
          <p:cNvPicPr/>
          <p:nvPr/>
        </p:nvPicPr>
        <p:blipFill>
          <a:blip r:embed="rId1"/>
          <a:stretch/>
        </p:blipFill>
        <p:spPr>
          <a:xfrm>
            <a:off x="685800" y="487440"/>
            <a:ext cx="7648560" cy="586584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ber industry is important but has created deforestation = erosion and land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rism is the fastest growing economy in Nepal for access to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tourism has damaged the environment due to a lack of infrastructure and westernized the culture to varying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void damage and westernization, Bhutan regulates tourism with a $250 daily head ta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13:56Z</dcterms:created>
  <dc:creator>Lindsey Barnes</dc:creator>
  <dc:description/>
  <dc:language>en-US</dc:language>
  <cp:lastModifiedBy>Barnes, Lindsey</cp:lastModifiedBy>
  <dcterms:modified xsi:type="dcterms:W3CDTF">2016-03-08T14:18:28Z</dcterms:modified>
  <cp:revision>19</cp:revision>
  <dc:subject/>
  <dc:title>Chapter 25, Section 3</dc:title>
</cp:coreProperties>
</file>