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5B92-EC59-4F5A-9627-A66BC8BF8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5179-8AAF-4C90-B31C-856B4FBF13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22C-0369-43F0-A3AB-E9123CD1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7B5-1198-41BB-AEB8-FF9EAA2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C81-640F-49B0-9763-BC9084C5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C37-BDD8-4D79-B14C-E602B3A0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12D9-968B-463F-869F-0D4F94EC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0B9-EFC1-4FB0-87FD-2BE5F65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8D7D-A03B-4C05-99E5-E50A921B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064D-8A49-4476-B25C-63A0472C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77E8-FA0A-4803-894A-212285CD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8609-0EC9-4A98-807F-046E7C2F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03E9-A0FA-415E-AD56-6BBA0D8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36F-0643-474F-8C84-29373D04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CF9-9012-4350-B1A9-133437CC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971C-2C9F-42DD-8CC9-325B2EE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C7CC-ED59-4036-8D89-4A9F468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1A3B-50AE-42FD-9FE6-1A14F75F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F9C8-07BE-4C4C-8BD1-45CD16D0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F42-7980-43ED-97F2-494B4575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9CE-C02F-4A26-AE06-7FA915A0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5E1-AFE9-45F2-8E45-C7998B6C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992-566F-486F-B96B-6EE33B6E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F50-D025-44FE-A0F6-8BAA038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056-D136-412C-BBA9-BDC3FD8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50E-8F6A-4F94-AD11-9B01F09E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30F5-5EDF-459F-8142-579C78875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dsey Barnes, Helena High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CF6-1805-4E3E-A8DA-D40B61F3A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1dfaf"/>
                </a:solidFill>
                <a:latin typeface="Times New Roman"/>
              </a:rPr>
              <a:t>Nepal and Bhutan</a:t>
            </a:r>
            <a:endParaRPr b="0" lang="en-US" sz="57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22" name="Picture 5" descr="bhutan-flag_0"/>
          <p:cNvPicPr/>
          <p:nvPr/>
        </p:nvPicPr>
        <p:blipFill>
          <a:blip r:embed="rId1"/>
          <a:stretch/>
        </p:blipFill>
        <p:spPr>
          <a:xfrm>
            <a:off x="4495680" y="3352680"/>
            <a:ext cx="429588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nepal-flag_1"/>
          <p:cNvPicPr/>
          <p:nvPr/>
        </p:nvPicPr>
        <p:blipFill>
          <a:blip r:embed="rId2"/>
          <a:stretch/>
        </p:blipFill>
        <p:spPr>
          <a:xfrm>
            <a:off x="685800" y="2666880"/>
            <a:ext cx="308628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819520" y="1981080"/>
            <a:ext cx="28954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3e26"/>
                </a:solidFill>
                <a:latin typeface="Verdana"/>
              </a:rPr>
              <a:t>HAND WRITTEN!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Cultural Tradition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’s ethnic groups are a mix from India, Nepal and Tib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betan Sherpa are used in mountaineer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hutan remains ethnically isol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al practices both Hinduism and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hutan’s official religion is Buddh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 folk art, dancing and arch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66294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Nep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1" name="Picture 6" descr="people_nepal"/>
          <p:cNvPicPr/>
          <p:nvPr/>
        </p:nvPicPr>
        <p:blipFill>
          <a:blip r:embed="rId1"/>
          <a:stretch/>
        </p:blipFill>
        <p:spPr>
          <a:xfrm>
            <a:off x="2057400" y="2895480"/>
            <a:ext cx="7086600" cy="374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223195_people_in_nepal____hindu_serie"/>
          <p:cNvPicPr/>
          <p:nvPr/>
        </p:nvPicPr>
        <p:blipFill>
          <a:blip r:embed="rId2"/>
          <a:stretch/>
        </p:blipFill>
        <p:spPr>
          <a:xfrm>
            <a:off x="228600" y="1295280"/>
            <a:ext cx="3962520" cy="302436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t_nepal_children_wr"/>
          <p:cNvPicPr/>
          <p:nvPr/>
        </p:nvPicPr>
        <p:blipFill>
          <a:blip r:embed="rId1"/>
          <a:stretch/>
        </p:blipFill>
        <p:spPr>
          <a:xfrm>
            <a:off x="762120" y="990720"/>
            <a:ext cx="7162560" cy="4798800"/>
          </a:xfrm>
          <a:prstGeom prst="rect">
            <a:avLst/>
          </a:prstGeom>
          <a:ln w="0">
            <a:noFill/>
          </a:ln>
        </p:spPr>
      </p:pic>
      <p:sp>
        <p:nvSpPr>
          <p:cNvPr id="15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144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People of Bhutan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57" name="Picture 10" descr="Bhutan%20people"/>
          <p:cNvPicPr/>
          <p:nvPr/>
        </p:nvPicPr>
        <p:blipFill>
          <a:blip r:embed="rId1"/>
          <a:stretch/>
        </p:blipFill>
        <p:spPr>
          <a:xfrm>
            <a:off x="228600" y="2895480"/>
            <a:ext cx="5667480" cy="376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eople1"/>
          <p:cNvPicPr/>
          <p:nvPr/>
        </p:nvPicPr>
        <p:blipFill>
          <a:blip r:embed="rId2"/>
          <a:stretch/>
        </p:blipFill>
        <p:spPr>
          <a:xfrm>
            <a:off x="4343400" y="121932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bhutan_people_01"/>
          <p:cNvPicPr/>
          <p:nvPr/>
        </p:nvPicPr>
        <p:blipFill>
          <a:blip r:embed="rId1"/>
          <a:stretch/>
        </p:blipFill>
        <p:spPr>
          <a:xfrm>
            <a:off x="0" y="228600"/>
            <a:ext cx="4172040" cy="440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bhutan_at_glance"/>
          <p:cNvPicPr/>
          <p:nvPr/>
        </p:nvPicPr>
        <p:blipFill>
          <a:blip r:embed="rId2"/>
          <a:stretch/>
        </p:blipFill>
        <p:spPr>
          <a:xfrm>
            <a:off x="533520" y="3645000"/>
            <a:ext cx="6734160" cy="321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60221431"/>
          <p:cNvPicPr/>
          <p:nvPr/>
        </p:nvPicPr>
        <p:blipFill>
          <a:blip r:embed="rId3"/>
          <a:stretch/>
        </p:blipFill>
        <p:spPr>
          <a:xfrm>
            <a:off x="5105520" y="0"/>
            <a:ext cx="3809880" cy="376236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zongandconvcenter"/>
          <p:cNvPicPr/>
          <p:nvPr/>
        </p:nvPicPr>
        <p:blipFill>
          <a:blip r:embed="rId1"/>
          <a:stretch/>
        </p:blipFill>
        <p:spPr>
          <a:xfrm>
            <a:off x="4495680" y="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T165210A"/>
          <p:cNvPicPr/>
          <p:nvPr/>
        </p:nvPicPr>
        <p:blipFill>
          <a:blip r:embed="rId2"/>
          <a:stretch/>
        </p:blipFill>
        <p:spPr>
          <a:xfrm>
            <a:off x="228600" y="314964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Bhutanese Arche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68" name="Picture 5" descr="54468378_2be75fcaf1"/>
          <p:cNvPicPr/>
          <p:nvPr/>
        </p:nvPicPr>
        <p:blipFill>
          <a:blip r:embed="rId1"/>
          <a:stretch/>
        </p:blipFill>
        <p:spPr>
          <a:xfrm>
            <a:off x="304920" y="1171440"/>
            <a:ext cx="8534160" cy="56865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archery"/>
          <p:cNvPicPr/>
          <p:nvPr/>
        </p:nvPicPr>
        <p:blipFill>
          <a:blip r:embed="rId1"/>
          <a:stretch/>
        </p:blipFill>
        <p:spPr>
          <a:xfrm>
            <a:off x="0" y="152280"/>
            <a:ext cx="6019920" cy="401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ports"/>
          <p:cNvPicPr/>
          <p:nvPr/>
        </p:nvPicPr>
        <p:blipFill>
          <a:blip r:embed="rId2"/>
          <a:stretch/>
        </p:blipFill>
        <p:spPr>
          <a:xfrm>
            <a:off x="5537160" y="1828800"/>
            <a:ext cx="3606840" cy="4829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250px-Bhutan_archery"/>
          <p:cNvPicPr/>
          <p:nvPr/>
        </p:nvPicPr>
        <p:blipFill>
          <a:blip r:embed="rId3"/>
          <a:stretch/>
        </p:blipFill>
        <p:spPr>
          <a:xfrm>
            <a:off x="380880" y="4267080"/>
            <a:ext cx="3581640" cy="24066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Nepal Festival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pic>
        <p:nvPicPr>
          <p:cNvPr id="175" name="Picture 9" descr="42-18638457"/>
          <p:cNvPicPr/>
          <p:nvPr/>
        </p:nvPicPr>
        <p:blipFill>
          <a:blip r:embed="rId1"/>
          <a:stretch/>
        </p:blipFill>
        <p:spPr>
          <a:xfrm>
            <a:off x="2743200" y="2781360"/>
            <a:ext cx="6095880" cy="40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elebrating%20buhist%20festival,%20nepal"/>
          <p:cNvPicPr/>
          <p:nvPr/>
        </p:nvPicPr>
        <p:blipFill>
          <a:blip r:embed="rId2"/>
          <a:stretch/>
        </p:blipFill>
        <p:spPr>
          <a:xfrm>
            <a:off x="152280" y="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festival_02"/>
          <p:cNvPicPr/>
          <p:nvPr/>
        </p:nvPicPr>
        <p:blipFill>
          <a:blip r:embed="rId1"/>
          <a:stretch/>
        </p:blipFill>
        <p:spPr>
          <a:xfrm>
            <a:off x="609480" y="3305160"/>
            <a:ext cx="5248440" cy="355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1303305622_7be705fa2c"/>
          <p:cNvPicPr/>
          <p:nvPr/>
        </p:nvPicPr>
        <p:blipFill>
          <a:blip r:embed="rId2"/>
          <a:stretch/>
        </p:blipFill>
        <p:spPr>
          <a:xfrm>
            <a:off x="533520" y="22860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4"/>
          <p:cNvPicPr/>
          <p:nvPr/>
        </p:nvPicPr>
        <p:blipFill>
          <a:blip r:embed="rId3"/>
          <a:stretch/>
        </p:blipFill>
        <p:spPr>
          <a:xfrm>
            <a:off x="5810400" y="152280"/>
            <a:ext cx="3095640" cy="464832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Mountain Kingdom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geographical feature are the mountains of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gged landscape has created isolation with no access to the s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has impacted the people’s culture tremendous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Himalaya+Mountains"/>
          <p:cNvPicPr/>
          <p:nvPr/>
        </p:nvPicPr>
        <p:blipFill>
          <a:blip r:embed="rId1"/>
          <a:stretch/>
        </p:blipFill>
        <p:spPr>
          <a:xfrm>
            <a:off x="228600" y="228600"/>
            <a:ext cx="4017960" cy="536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ALP"/>
          <p:cNvPicPr/>
          <p:nvPr/>
        </p:nvPicPr>
        <p:blipFill>
          <a:blip r:embed="rId2"/>
          <a:stretch/>
        </p:blipFill>
        <p:spPr>
          <a:xfrm>
            <a:off x="3352680" y="2895480"/>
            <a:ext cx="5534280" cy="362916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and natural progression toward democrac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ily - small religious kingdoms governed by Hindi kings in Nepal and Buddhist priests in Bhut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to monarchies of ruling fami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led to constitutional monarchies in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ft to democracies in 2008 without revolutions or viol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Times New Roman"/>
              </a:rPr>
              <a:t>Economies</a:t>
            </a:r>
            <a:endParaRPr b="0" lang="en-US" sz="4400" spc="-1" strike="noStrike">
              <a:solidFill>
                <a:srgbClr val="e1dfa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has limited economic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Buddhist help to avoid a consumer mentality to want “stuf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poor countries with jobs in the agricultural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istence farming – plots are small, soil is poor, and erosion is a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IMG_0330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9108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72398002"/>
          <p:cNvPicPr/>
          <p:nvPr/>
        </p:nvPicPr>
        <p:blipFill>
          <a:blip r:embed="rId1"/>
          <a:stretch/>
        </p:blipFill>
        <p:spPr>
          <a:xfrm>
            <a:off x="685800" y="487440"/>
            <a:ext cx="7648560" cy="5865840"/>
          </a:xfrm>
          <a:prstGeom prst="rect">
            <a:avLst/>
          </a:prstGeom>
          <a:ln w="0">
            <a:noFill/>
          </a:ln>
        </p:spPr>
      </p:pic>
      <p:sp>
        <p:nvSpPr>
          <p:cNvPr id="14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ber industry is important but has created deforestation = erosion and land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rism is the fastest growing economy in Nepal for access to the Himalay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tourism has damaged the environment due to a lack of infrastructure and westernized the culture to varying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void damage and westernization, Bhutan regulates tourism with a $250 daily head ta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ndsey Barnes, Helena High - 201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9:13:56Z</dcterms:created>
  <dc:creator>Lindsey Barnes</dc:creator>
  <dc:description/>
  <dc:language>en-US</dc:language>
  <cp:lastModifiedBy>Barnes, Lindsey</cp:lastModifiedBy>
  <dcterms:modified xsi:type="dcterms:W3CDTF">2016-03-08T14:18:28Z</dcterms:modified>
  <cp:revision>19</cp:revision>
  <dc:subject/>
  <dc:title>Chapter 25, Section 3</dc:title>
</cp:coreProperties>
</file>