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6.jpeg" ContentType="image/jpeg"/>
  <Override PartName="/ppt/media/image37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F82-1CE5-4B10-B733-818F3586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93B-7764-4E5B-BCCA-CE2F4265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0FA-6DE8-48E4-8487-DCC1EA67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846-0464-404A-8C91-0919D1E8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D5C9-D49E-4695-8D1F-8469842E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8920-69FB-452E-88C4-8C442B56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A397-F2B0-4F40-9069-7767913A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D04F-6695-42EF-8F56-CE604803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C737-21D3-4657-B069-FC9AD078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2D69-95B7-4179-B3BA-A85D833A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EEA4-0C05-454E-9F9E-2F289763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744-26F0-47D5-8516-DEC6FA44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6937-5195-46A3-BD22-3D48A47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8359-48D2-4C16-9BB4-DA63DD8E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23CE-EF2A-4D68-B3DE-E10ECB64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DCA3-99FF-4CEC-A17E-DA078638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4D2F-F115-4FD5-964E-7D9DC801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24F4D-99A7-4AF7-A99B-EAF87741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C2008-7D7E-403D-9F72-51A4DBF4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09F45-A60A-49C0-875E-C26328A2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13F6C-17F2-4069-886B-A6CF6F88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2B9D-F39F-4507-A183-F9B07404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CF4-5E5B-4F7E-84F1-ED3738EF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18C3-A7A9-4D0C-A2D2-14E49043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AD5A-50FF-40BC-BCF4-8DEE488D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C353C-10CD-406B-B98B-5690BDE0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75C7-81F3-4A0D-8848-8B274DD4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F4535-3DC7-4C17-80EB-92D26C07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E82B3-0B97-4991-8C1B-67782BF3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0285B-00D8-46ED-A4F1-459ECB30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21474-0ABA-45A8-8874-308BFF63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07057-37C0-4D55-A03D-4A3A3DD5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86AB5-796D-40D0-90A8-37A0D567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AB9-4BDB-431D-B1EE-067B3F11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082AA-7634-4A6E-A28F-71C0F38A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8F53F-BE29-454B-A989-FCBF2F74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78971-907F-49B4-A096-FECC277E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569A8-4DB0-4740-B255-27ACDAF5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7368A-CEE5-4241-AF2B-CB32AC00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D969-C7F1-4188-A80D-A417D5D8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C2882-C308-4C75-A50E-C5BDF208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B42B3-B03D-4799-88B9-EC2DE261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16995-F785-485F-9CE5-3018988B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CA51F-D101-49B2-8BA8-0D6394FA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E21-0FBC-4DA2-85A4-92D47C54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46114-B8B6-4C35-BD89-A49F627A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F468E-EE33-4D74-9146-4CF70E5E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AE735-5CF1-4C4A-BD3C-4D45BFBA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2AE08-C698-4326-A08F-191CA312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4C19C-68FF-40BC-A0C3-39581F31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2DE41-99DD-4E18-B5FA-0FFD896D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AE921-5187-492A-BA4F-172E7C84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A4091-C890-46C5-949C-C84BDA58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2C264-49B0-45E7-824A-AE3D96C1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E73E8-4502-4E41-A5A8-3DE8664E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0C2-90DB-4794-889F-CF27D8C4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CF95D-8EC6-4F53-9592-F8BAED46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2FE0A-A655-49E7-9936-7214B681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AB637-E0CD-4302-BC91-368C00B4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E55FE-9B8F-4448-845E-B59B717A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679F1-2132-410A-B343-30606C76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659C2-0080-42D9-A21D-5AE909D8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431F9-6BE7-4C4C-B7E5-630C95EF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96D534-690D-43BF-AFDC-F135B9E5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34DBC-B067-4C43-8DF1-16D6D707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6DFEB-E580-445D-8125-EE4C8A0A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2AC-53CE-4723-B6FA-DAD779C0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A610C-4787-4C65-AEAA-4DEC8F94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A02BE-7931-4B09-8572-AF7173F8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DB840-21CC-4FF9-80F5-F37FDF4A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CF1D6-1506-4758-97BE-2A971702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4A8D2-137A-48F6-ABB2-879D80D4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F1058-AAA2-48C5-9B21-9BA39FFF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738AF-7F84-47B4-A92F-A1DB0512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83C6E-84E5-4F2D-87DB-CBF2BAD1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A5F0A-2681-4CA3-BA0E-8C000AF6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C0D74-9815-4F21-AB36-51A76304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11C-4334-4FD0-B276-E936946F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623BA-1654-4DA3-8F92-CC0CA165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5DDE1-8E56-42DF-BDD3-7A2B97F8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34E93-68F5-4FB2-9337-01982DA9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647D7-BE2E-4AA5-BB8C-44C6E433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31B51-5CC2-4CED-B698-0AC67187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68A-C071-44B6-AD20-CE78224B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34E1-50F2-476E-B21D-8A74BDCAC51D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0479-EF3E-45A9-85C7-4EE8B45DE3F0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AFBC-3172-4B02-907A-B83C373B0214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3A90-2965-4438-A89F-B1B8955A2B2E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46C4-041E-42CA-8E6C-55B09E4D796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634B-B71B-4C41-8604-1AA36933AB9C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B5C5-C803-43B7-AF8A-E2AC66E61393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36560" y="32004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PAKISTAN AND BANGLADESH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2" name="Picture 7" descr="http://www.oocities.org/thalsena/oldindia.jpg"/>
          <p:cNvPicPr/>
          <p:nvPr/>
        </p:nvPicPr>
        <p:blipFill>
          <a:blip r:embed="rId1"/>
          <a:stretch/>
        </p:blipFill>
        <p:spPr>
          <a:xfrm>
            <a:off x="155520" y="127080"/>
            <a:ext cx="3730680" cy="3054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http://www.themuslimtimes.org/wp-content/uploads/2013/05/Pakistan-Bangladesh.jpg"/>
          <p:cNvPicPr/>
          <p:nvPr/>
        </p:nvPicPr>
        <p:blipFill>
          <a:blip r:embed="rId2"/>
          <a:stretch/>
        </p:blipFill>
        <p:spPr>
          <a:xfrm>
            <a:off x="5867280" y="4392720"/>
            <a:ext cx="3056040" cy="2444760"/>
          </a:xfrm>
          <a:prstGeom prst="rect">
            <a:avLst/>
          </a:prstGeom>
          <a:ln w="0">
            <a:noFill/>
          </a:ln>
        </p:spPr>
      </p:pic>
      <p:sp>
        <p:nvSpPr>
          <p:cNvPr id="33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b7d72"/>
                </a:solidFill>
                <a:latin typeface="Book Antiqua"/>
              </a:rPr>
              <a:t>GREEN-PAKISTAN, BLUE-INDIA, YELLOW-CHINA</a:t>
            </a:r>
            <a:endParaRPr b="0" lang="en-US" sz="34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1" name="Picture 8" descr="764px-Kashmir_map"/>
          <p:cNvPicPr/>
          <p:nvPr/>
        </p:nvPicPr>
        <p:blipFill>
          <a:blip r:embed="rId1"/>
          <a:stretch/>
        </p:blipFill>
        <p:spPr>
          <a:xfrm>
            <a:off x="1143000" y="1292400"/>
            <a:ext cx="7086600" cy="556560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0456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and India both have nuclear weapons and are on the brink of conflic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008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Muslim extremists attacked India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ndia accuses Pakistan of not cooperating in the investigatio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Islamic country where instability lies with competing ethnic group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U.S. continues drone strikes in areas where they believe there are Taliban training camp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trikes are condemned by the UN and controversial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RELIG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ost people are Muslim in religion but different have ethniciti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follows  British law but is highly influenced by Sharia Law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he custom of </a:t>
            </a:r>
            <a:r>
              <a:rPr b="0" i="1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urdah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allows the seclusion of women in the rural areas (Taliban controlled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lasphemy law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death sentence if it is believed a person has dishonored Islam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PAKISTA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9" name="Picture 8" descr="20060418-india-pakistan-border"/>
          <p:cNvPicPr/>
          <p:nvPr/>
        </p:nvPicPr>
        <p:blipFill>
          <a:blip r:embed="rId1"/>
          <a:stretch/>
        </p:blipFill>
        <p:spPr>
          <a:xfrm>
            <a:off x="2349360" y="1938240"/>
            <a:ext cx="4445280" cy="40006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Pakistan"/>
          <p:cNvPicPr/>
          <p:nvPr/>
        </p:nvPicPr>
        <p:blipFill>
          <a:blip r:embed="rId2"/>
          <a:stretch/>
        </p:blipFill>
        <p:spPr>
          <a:xfrm>
            <a:off x="228600" y="1025640"/>
            <a:ext cx="5257800" cy="3679560"/>
          </a:xfrm>
          <a:prstGeom prst="rect">
            <a:avLst/>
          </a:prstGeom>
          <a:ln w="0">
            <a:noFill/>
          </a:ln>
        </p:spPr>
      </p:pic>
      <p:sp>
        <p:nvSpPr>
          <p:cNvPr id="37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Elphinstone%20St%20Karachi%2002"/>
          <p:cNvPicPr/>
          <p:nvPr/>
        </p:nvPicPr>
        <p:blipFill>
          <a:blip r:embed="rId1"/>
          <a:stretch/>
        </p:blipFill>
        <p:spPr>
          <a:xfrm>
            <a:off x="2666880" y="2362320"/>
            <a:ext cx="6172200" cy="4319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Lahore,%20Pakistan"/>
          <p:cNvPicPr/>
          <p:nvPr/>
        </p:nvPicPr>
        <p:blipFill>
          <a:blip r:embed="rId2"/>
          <a:stretch/>
        </p:blipFill>
        <p:spPr>
          <a:xfrm>
            <a:off x="0" y="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3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7" name="Picture 5" descr="pakistan_1"/>
          <p:cNvPicPr/>
          <p:nvPr/>
        </p:nvPicPr>
        <p:blipFill>
          <a:blip r:embed="rId1"/>
          <a:stretch/>
        </p:blipFill>
        <p:spPr>
          <a:xfrm>
            <a:off x="609480" y="609480"/>
            <a:ext cx="7858080" cy="5896080"/>
          </a:xfrm>
          <a:prstGeom prst="rect">
            <a:avLst/>
          </a:prstGeom>
          <a:ln w="0">
            <a:noFill/>
          </a:ln>
        </p:spPr>
      </p:pic>
      <p:sp>
        <p:nvSpPr>
          <p:cNvPr id="37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275193325_273ed4cdbd"/>
          <p:cNvPicPr/>
          <p:nvPr/>
        </p:nvPicPr>
        <p:blipFill>
          <a:blip r:embed="rId1"/>
          <a:stretch/>
        </p:blipFill>
        <p:spPr>
          <a:xfrm>
            <a:off x="2895480" y="228600"/>
            <a:ext cx="5905800" cy="3944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610x"/>
          <p:cNvPicPr/>
          <p:nvPr/>
        </p:nvPicPr>
        <p:blipFill>
          <a:blip r:embed="rId2"/>
          <a:stretch/>
        </p:blipFill>
        <p:spPr>
          <a:xfrm>
            <a:off x="152280" y="3133800"/>
            <a:ext cx="5810400" cy="3724200"/>
          </a:xfrm>
          <a:prstGeom prst="rect">
            <a:avLst/>
          </a:prstGeom>
          <a:ln w="0">
            <a:noFill/>
          </a:ln>
        </p:spPr>
      </p:pic>
      <p:sp>
        <p:nvSpPr>
          <p:cNvPr id="38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Pakistan"/>
          <p:cNvPicPr/>
          <p:nvPr/>
        </p:nvPicPr>
        <p:blipFill>
          <a:blip r:embed="rId1"/>
          <a:stretch/>
        </p:blipFill>
        <p:spPr>
          <a:xfrm>
            <a:off x="2590920" y="152280"/>
            <a:ext cx="6400800" cy="4146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610x"/>
          <p:cNvPicPr/>
          <p:nvPr/>
        </p:nvPicPr>
        <p:blipFill>
          <a:blip r:embed="rId2"/>
          <a:stretch/>
        </p:blipFill>
        <p:spPr>
          <a:xfrm>
            <a:off x="0" y="3187800"/>
            <a:ext cx="5257800" cy="350820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BANGLADESH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6" name="Picture 5" descr="Bangladesh"/>
          <p:cNvPicPr/>
          <p:nvPr/>
        </p:nvPicPr>
        <p:blipFill>
          <a:blip r:embed="rId1"/>
          <a:stretch/>
        </p:blipFill>
        <p:spPr>
          <a:xfrm>
            <a:off x="4697280" y="0"/>
            <a:ext cx="4446720" cy="2666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Map of Bangladesh"/>
          <p:cNvPicPr/>
          <p:nvPr/>
        </p:nvPicPr>
        <p:blipFill>
          <a:blip r:embed="rId2"/>
          <a:stretch/>
        </p:blipFill>
        <p:spPr>
          <a:xfrm>
            <a:off x="152280" y="255600"/>
            <a:ext cx="4335480" cy="2438280"/>
          </a:xfrm>
          <a:prstGeom prst="rect">
            <a:avLst/>
          </a:prstGeom>
          <a:ln w="0">
            <a:noFill/>
          </a:ln>
        </p:spPr>
      </p:pic>
      <p:sp>
        <p:nvSpPr>
          <p:cNvPr id="38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04560" y="17521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One of the world’s most densely populated cities all crammed around the delta of the Bay of Bengal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Large, rapidly growing populations with low per capita incomes and poverty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one of the poorest countries in the world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mall rural farming is the biggest busines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angladesh produces rice for expor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HISTOR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 baseline="30000">
                <a:solidFill>
                  <a:srgbClr val="564b3c"/>
                </a:solidFill>
                <a:latin typeface="Times New Roman"/>
                <a:ea typeface="Times New Roman"/>
              </a:rPr>
              <a:t>st</a:t>
            </a: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civilization was in the Indus Valley (Pakistan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uled by multiple empires throughout the ages including the Mughal and British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947 independence brought the Partition of British India creating Pakistan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lvl="1" marL="620280" indent="-221400">
              <a:lnSpc>
                <a:spcPct val="100000"/>
              </a:lnSpc>
              <a:spcBef>
                <a:spcPts val="7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Divided between East and West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2824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rying to diversify its economy with industry and manufacturing (clothes) which has led to bad working conditio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013 a garment factory collapsed and killed 1,000 people!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olitical animosity exists between the main political parties which has resulted in violence throughout the year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eligious extremism has become a concern -- normally it is a moderate country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Government has outlawed two extremist groups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angladesh has been criticized for its treatment toward women and accusations that police use torture of people in custod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51920" y="533160"/>
            <a:ext cx="85345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Life revolves around the family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rranged marriages and large extended families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ost people live in small villages of simple homes. 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oetry, music and dance are very popular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angladesh is a low lying country which faces flooding and rising sea levels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5" descr="Boys in Dhaka play in flood waters"/>
          <p:cNvPicPr/>
          <p:nvPr/>
        </p:nvPicPr>
        <p:blipFill>
          <a:blip r:embed="rId1"/>
          <a:stretch/>
        </p:blipFill>
        <p:spPr>
          <a:xfrm>
            <a:off x="0" y="633240"/>
            <a:ext cx="9296280" cy="5229360"/>
          </a:xfrm>
          <a:prstGeom prst="rect">
            <a:avLst/>
          </a:prstGeom>
          <a:ln w="0">
            <a:noFill/>
          </a:ln>
        </p:spPr>
      </p:pic>
      <p:sp>
        <p:nvSpPr>
          <p:cNvPr id="39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6" descr="Boats vie for passengers in flooded Sirajganj"/>
          <p:cNvPicPr/>
          <p:nvPr/>
        </p:nvPicPr>
        <p:blipFill>
          <a:blip r:embed="rId1"/>
          <a:stretch/>
        </p:blipFill>
        <p:spPr>
          <a:xfrm>
            <a:off x="-152280" y="1251000"/>
            <a:ext cx="9296280" cy="5229000"/>
          </a:xfrm>
          <a:prstGeom prst="rect">
            <a:avLst/>
          </a:prstGeom>
          <a:ln w="0">
            <a:noFill/>
          </a:ln>
        </p:spPr>
      </p:pic>
      <p:sp>
        <p:nvSpPr>
          <p:cNvPr id="3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0" name="Picture 5" descr="hot-016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40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BANGLADESH CITY STREET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5" descr="image?id=78289&amp;rendTypeId=4"/>
          <p:cNvPicPr/>
          <p:nvPr/>
        </p:nvPicPr>
        <p:blipFill>
          <a:blip r:embed="rId1"/>
          <a:stretch/>
        </p:blipFill>
        <p:spPr>
          <a:xfrm>
            <a:off x="0" y="1219320"/>
            <a:ext cx="5562720" cy="3852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population%20dinesty"/>
          <p:cNvPicPr/>
          <p:nvPr/>
        </p:nvPicPr>
        <p:blipFill>
          <a:blip r:embed="rId2"/>
          <a:stretch/>
        </p:blipFill>
        <p:spPr>
          <a:xfrm>
            <a:off x="4989600" y="2362320"/>
            <a:ext cx="4005000" cy="4286160"/>
          </a:xfrm>
          <a:prstGeom prst="rect">
            <a:avLst/>
          </a:prstGeom>
          <a:ln w="0">
            <a:noFill/>
          </a:ln>
        </p:spPr>
      </p:pic>
      <p:sp>
        <p:nvSpPr>
          <p:cNvPr id="4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BANGLADESH POVERT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7" name="Picture 5" descr="2334850757_9c87182d9e"/>
          <p:cNvPicPr/>
          <p:nvPr/>
        </p:nvPicPr>
        <p:blipFill>
          <a:blip r:embed="rId1"/>
          <a:stretch/>
        </p:blipFill>
        <p:spPr>
          <a:xfrm>
            <a:off x="380880" y="1752480"/>
            <a:ext cx="3314880" cy="4762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Slum+Dhaka"/>
          <p:cNvPicPr/>
          <p:nvPr/>
        </p:nvPicPr>
        <p:blipFill>
          <a:blip r:embed="rId2"/>
          <a:stretch/>
        </p:blipFill>
        <p:spPr>
          <a:xfrm>
            <a:off x="5257800" y="1447920"/>
            <a:ext cx="3429000" cy="5153040"/>
          </a:xfrm>
          <a:prstGeom prst="rect">
            <a:avLst/>
          </a:prstGeom>
          <a:ln w="0">
            <a:noFill/>
          </a:ln>
        </p:spPr>
      </p:pic>
      <p:sp>
        <p:nvSpPr>
          <p:cNvPr id="40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5" descr="Bamboo01"/>
          <p:cNvPicPr/>
          <p:nvPr/>
        </p:nvPicPr>
        <p:blipFill>
          <a:blip r:embed="rId1"/>
          <a:stretch/>
        </p:blipFill>
        <p:spPr>
          <a:xfrm>
            <a:off x="3581280" y="457200"/>
            <a:ext cx="5257800" cy="3551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banglahovellow"/>
          <p:cNvPicPr/>
          <p:nvPr/>
        </p:nvPicPr>
        <p:blipFill>
          <a:blip r:embed="rId2"/>
          <a:stretch/>
        </p:blipFill>
        <p:spPr>
          <a:xfrm>
            <a:off x="457200" y="28195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4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EAST AND WEST PAKISTA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9" name="Picture 5" descr="http://farm1.staticflickr.com/97/212352061_393c86b8d4.jpg"/>
          <p:cNvPicPr/>
          <p:nvPr/>
        </p:nvPicPr>
        <p:blipFill>
          <a:blip r:embed="rId1"/>
          <a:stretch/>
        </p:blipFill>
        <p:spPr>
          <a:xfrm>
            <a:off x="762120" y="13716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34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West and East shared religion (Muslim), but had ethnic differenc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971 civil war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East Pakistan won its independence and formed the country of Bangladesh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Helped by India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3276720"/>
            <a:ext cx="6629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534c"/>
                </a:solidFill>
                <a:latin typeface="Book Antiqua"/>
              </a:rPr>
              <a:t>ISLAMIC REPUBLIC OF </a:t>
            </a:r>
            <a:r>
              <a:rPr b="0" lang="en-US" sz="4800" spc="-1" strike="noStrike">
                <a:solidFill>
                  <a:srgbClr val="47534c"/>
                </a:solidFill>
                <a:latin typeface="Book Antiqua"/>
              </a:rPr>
              <a:t>PAKISTAN</a:t>
            </a:r>
            <a:endParaRPr b="0" lang="en-US" sz="48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4" name="Picture 10" descr="pakistan-flag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2898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Map of Pakistan"/>
          <p:cNvPicPr/>
          <p:nvPr/>
        </p:nvPicPr>
        <p:blipFill>
          <a:blip r:embed="rId2"/>
          <a:stretch/>
        </p:blipFill>
        <p:spPr>
          <a:xfrm>
            <a:off x="284040" y="317520"/>
            <a:ext cx="4024440" cy="2263680"/>
          </a:xfrm>
          <a:prstGeom prst="rect">
            <a:avLst/>
          </a:prstGeom>
          <a:ln w="0">
            <a:noFill/>
          </a:ln>
        </p:spPr>
      </p:pic>
      <p:sp>
        <p:nvSpPr>
          <p:cNvPr id="34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Badshahi Mosque in Lahore "/>
          <p:cNvPicPr/>
          <p:nvPr/>
        </p:nvPicPr>
        <p:blipFill>
          <a:blip r:embed="rId1"/>
          <a:stretch/>
        </p:blipFill>
        <p:spPr>
          <a:xfrm>
            <a:off x="0" y="0"/>
            <a:ext cx="5943600" cy="3724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Market in Lahore"/>
          <p:cNvPicPr/>
          <p:nvPr/>
        </p:nvPicPr>
        <p:blipFill>
          <a:blip r:embed="rId2"/>
          <a:stretch/>
        </p:blipFill>
        <p:spPr>
          <a:xfrm>
            <a:off x="4856040" y="4991040"/>
            <a:ext cx="4267440" cy="1866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Vendor reads newspaper in Pakistan market"/>
          <p:cNvPicPr/>
          <p:nvPr/>
        </p:nvPicPr>
        <p:blipFill>
          <a:blip r:embed="rId3"/>
          <a:stretch/>
        </p:blipFill>
        <p:spPr>
          <a:xfrm>
            <a:off x="6019920" y="533520"/>
            <a:ext cx="2895480" cy="3686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hristians protest against Pakistani blasphemy laws, August 2012"/>
          <p:cNvPicPr/>
          <p:nvPr/>
        </p:nvPicPr>
        <p:blipFill>
          <a:blip r:embed="rId4"/>
          <a:stretch/>
        </p:blipFill>
        <p:spPr>
          <a:xfrm>
            <a:off x="304920" y="3962520"/>
            <a:ext cx="4332240" cy="2666880"/>
          </a:xfrm>
          <a:prstGeom prst="rect">
            <a:avLst/>
          </a:prstGeom>
          <a:ln w="0">
            <a:noFill/>
          </a:ln>
        </p:spPr>
      </p:pic>
      <p:sp>
        <p:nvSpPr>
          <p:cNvPr id="3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POLITIC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6176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Corruption, inefficiency, and military rule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ilitary rule </a:t>
            </a:r>
            <a:r>
              <a:rPr b="0" lang="en-US" sz="28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failed economy and failed stability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Government can’t control the tribal regions along the Afghan border where there are Taliban linked militant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plit between Islamist militancy and modernizing secular (non religious) group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0" y="1752480"/>
            <a:ext cx="86104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became strategically important after 9/11 to the United States’ “War on Terror.”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denied accusation of al-Qaeda and Taliban leaders in their tribal region and then Osama bin Laden was found there! Hurt relationship with the U.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One of the deadliest countries in the world for journalism where media is strictly controlled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Filtered for blasphemy (anti-religious), anti-state or anti-militar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KASHMIR REGION DISPUT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380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fter independence from the British and the Partition the region of Kashmir got to decided which country they wanted to be a part of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rince of Kashmir was Hindu and wanted to go with India; majority of people are Muslim and wanted to go with Pakista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egion split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2/3 is India and 1/3 is Pakista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1:40:00Z</dcterms:created>
  <dc:creator>Lindsey Barnes</dc:creator>
  <dc:description/>
  <dc:language>en-US</dc:language>
  <cp:lastModifiedBy>Barnes, Lindsey</cp:lastModifiedBy>
  <cp:lastPrinted>2011-12-22T21:42:00Z</cp:lastPrinted>
  <dcterms:modified xsi:type="dcterms:W3CDTF">2016-02-23T16:26:28Z</dcterms:modified>
  <cp:revision>29</cp:revision>
  <dc:subject/>
  <dc:title>Chapter 25, Section 2</dc:title>
</cp:coreProperties>
</file>