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jpeg" ContentType="image/jpeg"/>
  <Override PartName="/ppt/media/image37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390-422D-4F4F-8774-57159FF1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81B-1013-43C6-81AD-3B2C8BC1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336-0D87-444A-987E-4D0099FD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4BE-A638-4876-B20F-14BA626A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7E93-02F6-4FA4-B760-C0C07D99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4746-A8D7-4C14-A758-3B1B60FA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9E63-3F7F-48E5-B2EC-F40689D3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D108-A87C-465F-9C75-0B4BDCC8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374E-6D96-4D69-A2A0-DFE45808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B154-8FB8-4B95-BE03-954ED0D2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73AC-868E-4749-B89F-7B38A65E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B99-B098-4154-A59D-FC543AE2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DD51-E1C1-44B7-85F8-F6FCB673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1093-DEEB-4896-ACF0-34DD33F3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79B6-6747-427C-9CE9-B72458BF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2DA1-D2DE-428A-8C73-9DAF53BA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C5AC-AA53-42DC-9480-A85605D1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41AF-9D11-4D86-BEA6-B1103BEF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37C2-4ED3-4E8E-8FB4-DFADD056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6DDC-589C-4700-8610-C5132CD6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0F2D-8F02-4F33-9BFC-78C275A6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E0F4-8521-4D2B-B639-898CD56A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7B7-0B9F-4BC9-9626-962A4201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CD6A-20A1-400F-8650-71A9EFEA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AA661-189E-4E0E-8F64-23F68E04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F9DB7-54E5-45C4-801C-D8931B0E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6960-1D38-4FDC-A41E-EE8D9FA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F5DB-7426-4E18-A8CB-95535642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4BDA-F762-4024-9A37-91C607F6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42F7-A3B8-4FDF-AEB4-8CD131D0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EBE49-FFA6-4EA9-A092-BC7FFEA3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07374-048D-47B7-9712-105338F9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67AA-CFEB-47B1-B77F-64A9D661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081-A2C5-4DD1-8A22-A5F25C5D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9B78-9F8C-4F65-AC65-31BAE0AA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9585A-AD5A-41F6-AD3F-31DC87F2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0F75-CABE-40D0-AC21-5216B493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60BF-814E-4A8D-A4FE-8A73146E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4D80-04AE-4A45-99F6-641387E5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AAC3-15B2-409F-8261-1428B989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23E12-C401-4135-BA11-FE6E9C4D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5AAE-EE69-431B-B2D4-C5ECFDDD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F47F-4AE8-4E1A-BF8E-37F58440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800A1-FB85-49A8-BECD-44DC9AD6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885-FEE7-47F1-A31B-47038D87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E3884-8007-4DE5-ABEF-9E0B4E30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08A84-D7B7-4C74-BBCA-B2173E99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CBE8-5951-4650-9B1B-2B14F6C8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CA3E-875E-404D-A4FD-F7BAC996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9BAE9-8C47-44B3-BA2C-1173E389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C99D-7D79-49DB-920F-26FE66C0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5A612-4F74-4032-BFF0-8D8EFC7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359D5-14FF-4975-8531-11A7A5EE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4DA0-5C18-4917-83DE-35507D9A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F17F2-9C1F-42D7-A6EA-A553271D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76D-75F0-43AD-A944-9535EE7E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12C1-D23B-4A38-BB6B-0FFA0D51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048FD-E46E-4C1B-92BF-302291E0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13D9A-B5CD-4EFD-AFB8-9940DD2D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E2481-D4D5-4736-8AE2-62078B24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D4221-02BB-4CB0-9095-F9125BEA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57236-3451-407C-A17D-2A2A0945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BC285-5CB3-4B23-B03E-D2385948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75611-4037-44BE-B787-1A26CE17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A3554-A77D-4370-9F82-482412D2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2955A-8DFF-4BFE-8782-A9C99C81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B35-6B47-40B1-83EB-0F85A4F2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67ABD-FD57-4D89-B5A2-C037B056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508AC-1CD9-45AC-A343-468514C1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A7C9E-18C8-4F78-BA6B-BC2771F8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757F4-EB2E-4F4C-BA98-6FA0D3DF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6440D-184F-452A-B2FA-DBD997C0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BCD7E-C647-4EF4-82B7-FEC16570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B9D9C-6799-48DA-BA7A-5FCDC21B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30074-5C2C-4867-B0FE-5BCD9869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085A7-7B5D-4431-80D2-CC632420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1A7B0-95A0-400C-BA88-30E37BC0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D7F-4746-4359-8DB3-34608C6D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C1003-B706-42D9-B11F-1CE3B6B9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FCEE7-F9AB-4CEB-A143-95D74055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8BC57-A8E9-4AE9-B9C3-A927ABA0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3F6AF-1930-4452-9E42-57745CB0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A40D2-D476-4E4A-B7B6-12B9BFB5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E35-AAF5-4B6D-9DA4-3B73C597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F077-0EE2-43B6-8287-588A2EF82E2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4998-BC81-4B6B-9283-08FE46E31260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6F56-F574-44DE-AB59-2B801459542D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1111-353E-40FC-B301-514E8B68F31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CB41-012D-46F3-8F0A-BDAB90C0ED9D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8DCD-C848-443B-B0F1-A4A48A120746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A5BE-B9B7-40B8-A90F-0F87F4625666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36560" y="32004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PAKISTAN AND BANGLADESH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2" name="Picture 7" descr="http://www.oocities.org/thalsena/oldindia.jpg"/>
          <p:cNvPicPr/>
          <p:nvPr/>
        </p:nvPicPr>
        <p:blipFill>
          <a:blip r:embed="rId1"/>
          <a:stretch/>
        </p:blipFill>
        <p:spPr>
          <a:xfrm>
            <a:off x="155520" y="127080"/>
            <a:ext cx="3730680" cy="3054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http://www.themuslimtimes.org/wp-content/uploads/2013/05/Pakistan-Bangladesh.jpg"/>
          <p:cNvPicPr/>
          <p:nvPr/>
        </p:nvPicPr>
        <p:blipFill>
          <a:blip r:embed="rId2"/>
          <a:stretch/>
        </p:blipFill>
        <p:spPr>
          <a:xfrm>
            <a:off x="5867280" y="4392720"/>
            <a:ext cx="3056040" cy="2444760"/>
          </a:xfrm>
          <a:prstGeom prst="rect">
            <a:avLst/>
          </a:prstGeom>
          <a:ln w="0">
            <a:noFill/>
          </a:ln>
        </p:spPr>
      </p:pic>
      <p:sp>
        <p:nvSpPr>
          <p:cNvPr id="3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b7d72"/>
                </a:solidFill>
                <a:latin typeface="Book Antiqua"/>
              </a:rPr>
              <a:t>GREEN-PAKISTAN, BLUE-INDIA, YELLOW-CHINA</a:t>
            </a:r>
            <a:endParaRPr b="0" lang="en-US" sz="34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1" name="Picture 8" descr="764px-Kashmir_map"/>
          <p:cNvPicPr/>
          <p:nvPr/>
        </p:nvPicPr>
        <p:blipFill>
          <a:blip r:embed="rId1"/>
          <a:stretch/>
        </p:blipFill>
        <p:spPr>
          <a:xfrm>
            <a:off x="1143000" y="1292400"/>
            <a:ext cx="7086600" cy="556560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56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and India both have nuclear weapons and are on the brink of conflic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08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Muslim extremists attacked Indi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ndia accuses Pakistan of not cooperating in the investiga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Islamic country where instability lies with competing ethnic group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U.S. continues drone strikes in areas where they believe there are Taliban training camp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trikes are condemned by the UN and controversial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RELIG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ost people are Muslim in religion but different have ethniciti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follows  British law but is highly influenced by Sharia Law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he custom of </a:t>
            </a:r>
            <a:r>
              <a:rPr b="0" i="1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urdah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allows the seclusion of women in the rural areas (Taliban controlled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lasphemy law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death sentence if it is believed a person has dishonored Islam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PAKISTA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9" name="Picture 8" descr="20060418-india-pakistan-border"/>
          <p:cNvPicPr/>
          <p:nvPr/>
        </p:nvPicPr>
        <p:blipFill>
          <a:blip r:embed="rId1"/>
          <a:stretch/>
        </p:blipFill>
        <p:spPr>
          <a:xfrm>
            <a:off x="2349360" y="1938240"/>
            <a:ext cx="4445280" cy="4000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Pakistan"/>
          <p:cNvPicPr/>
          <p:nvPr/>
        </p:nvPicPr>
        <p:blipFill>
          <a:blip r:embed="rId2"/>
          <a:stretch/>
        </p:blipFill>
        <p:spPr>
          <a:xfrm>
            <a:off x="228600" y="1025640"/>
            <a:ext cx="5257800" cy="3679560"/>
          </a:xfrm>
          <a:prstGeom prst="rect">
            <a:avLst/>
          </a:prstGeom>
          <a:ln w="0">
            <a:noFill/>
          </a:ln>
        </p:spPr>
      </p:pic>
      <p:sp>
        <p:nvSpPr>
          <p:cNvPr id="37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Elphinstone%20St%20Karachi%2002"/>
          <p:cNvPicPr/>
          <p:nvPr/>
        </p:nvPicPr>
        <p:blipFill>
          <a:blip r:embed="rId1"/>
          <a:stretch/>
        </p:blipFill>
        <p:spPr>
          <a:xfrm>
            <a:off x="2666880" y="2362320"/>
            <a:ext cx="6172200" cy="431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Lahore,%20Pakistan"/>
          <p:cNvPicPr/>
          <p:nvPr/>
        </p:nvPicPr>
        <p:blipFill>
          <a:blip r:embed="rId2"/>
          <a:stretch/>
        </p:blipFill>
        <p:spPr>
          <a:xfrm>
            <a:off x="0" y="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3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7" name="Picture 5" descr="pakistan_1"/>
          <p:cNvPicPr/>
          <p:nvPr/>
        </p:nvPicPr>
        <p:blipFill>
          <a:blip r:embed="rId1"/>
          <a:stretch/>
        </p:blipFill>
        <p:spPr>
          <a:xfrm>
            <a:off x="609480" y="609480"/>
            <a:ext cx="7858080" cy="5896080"/>
          </a:xfrm>
          <a:prstGeom prst="rect">
            <a:avLst/>
          </a:prstGeom>
          <a:ln w="0">
            <a:noFill/>
          </a:ln>
        </p:spPr>
      </p:pic>
      <p:sp>
        <p:nvSpPr>
          <p:cNvPr id="37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275193325_273ed4cdbd"/>
          <p:cNvPicPr/>
          <p:nvPr/>
        </p:nvPicPr>
        <p:blipFill>
          <a:blip r:embed="rId1"/>
          <a:stretch/>
        </p:blipFill>
        <p:spPr>
          <a:xfrm>
            <a:off x="2895480" y="228600"/>
            <a:ext cx="5905800" cy="3944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610x"/>
          <p:cNvPicPr/>
          <p:nvPr/>
        </p:nvPicPr>
        <p:blipFill>
          <a:blip r:embed="rId2"/>
          <a:stretch/>
        </p:blipFill>
        <p:spPr>
          <a:xfrm>
            <a:off x="152280" y="3133800"/>
            <a:ext cx="5810400" cy="3724200"/>
          </a:xfrm>
          <a:prstGeom prst="rect">
            <a:avLst/>
          </a:prstGeom>
          <a:ln w="0">
            <a:noFill/>
          </a:ln>
        </p:spPr>
      </p:pic>
      <p:sp>
        <p:nvSpPr>
          <p:cNvPr id="38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Pakistan"/>
          <p:cNvPicPr/>
          <p:nvPr/>
        </p:nvPicPr>
        <p:blipFill>
          <a:blip r:embed="rId1"/>
          <a:stretch/>
        </p:blipFill>
        <p:spPr>
          <a:xfrm>
            <a:off x="2590920" y="152280"/>
            <a:ext cx="6400800" cy="4146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610x"/>
          <p:cNvPicPr/>
          <p:nvPr/>
        </p:nvPicPr>
        <p:blipFill>
          <a:blip r:embed="rId2"/>
          <a:stretch/>
        </p:blipFill>
        <p:spPr>
          <a:xfrm>
            <a:off x="0" y="3187800"/>
            <a:ext cx="5257800" cy="350820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BANGLADESH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6" name="Picture 5" descr="Bangladesh"/>
          <p:cNvPicPr/>
          <p:nvPr/>
        </p:nvPicPr>
        <p:blipFill>
          <a:blip r:embed="rId1"/>
          <a:stretch/>
        </p:blipFill>
        <p:spPr>
          <a:xfrm>
            <a:off x="4697280" y="0"/>
            <a:ext cx="4446720" cy="2666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Map of Bangladesh"/>
          <p:cNvPicPr/>
          <p:nvPr/>
        </p:nvPicPr>
        <p:blipFill>
          <a:blip r:embed="rId2"/>
          <a:stretch/>
        </p:blipFill>
        <p:spPr>
          <a:xfrm>
            <a:off x="152280" y="255600"/>
            <a:ext cx="4335480" cy="2438280"/>
          </a:xfrm>
          <a:prstGeom prst="rect">
            <a:avLst/>
          </a:prstGeom>
          <a:ln w="0">
            <a:noFill/>
          </a:ln>
        </p:spPr>
      </p:pic>
      <p:sp>
        <p:nvSpPr>
          <p:cNvPr id="3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04560" y="17521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world’s most densely populated cities all crammed around the delta of the Bay of Bengal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Large, rapidly growing populations with low per capita incomes and povert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poorest countries in the world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mall rural farming is the biggest busines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produces rice for expor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HISTOR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 baseline="30000">
                <a:solidFill>
                  <a:srgbClr val="564b3c"/>
                </a:solidFill>
                <a:latin typeface="Times New Roman"/>
                <a:ea typeface="Times New Roman"/>
              </a:rPr>
              <a:t>st</a:t>
            </a: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civilization was in the Indus Valley (Pakistan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uled by multiple empires throughout the ages including the Mughal and British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947 independence brought the Partition of British India creating Pakistan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lvl="1" marL="620280" indent="-221400">
              <a:lnSpc>
                <a:spcPct val="100000"/>
              </a:lnSpc>
              <a:spcBef>
                <a:spcPts val="7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ivided between East and West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2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rying to diversify its economy with industry and manufacturing (clothes) which has led to bad working condi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13 a garment factory collapsed and killed 1,000 people!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olitical animosity exists between the main political parties which has resulted in violence throughout the year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eligious extremism has become a concern -- normally it is a moderate country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Government has outlawed two extremist groups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has been criticized for its treatment toward women and accusations that police use torture of people in custod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51920" y="533160"/>
            <a:ext cx="85345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Life revolves around the family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rranged marriages and large extended families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ost people live in small villages of simple homes. 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oetry, music and dance are very popular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is a low lying country which faces flooding and rising sea levels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Boys in Dhaka play in flood waters"/>
          <p:cNvPicPr/>
          <p:nvPr/>
        </p:nvPicPr>
        <p:blipFill>
          <a:blip r:embed="rId1"/>
          <a:stretch/>
        </p:blipFill>
        <p:spPr>
          <a:xfrm>
            <a:off x="0" y="633240"/>
            <a:ext cx="9296280" cy="5229360"/>
          </a:xfrm>
          <a:prstGeom prst="rect">
            <a:avLst/>
          </a:prstGeom>
          <a:ln w="0">
            <a:noFill/>
          </a:ln>
        </p:spPr>
      </p:pic>
      <p:sp>
        <p:nvSpPr>
          <p:cNvPr id="39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6" descr="Boats vie for passengers in flooded Sirajganj"/>
          <p:cNvPicPr/>
          <p:nvPr/>
        </p:nvPicPr>
        <p:blipFill>
          <a:blip r:embed="rId1"/>
          <a:stretch/>
        </p:blipFill>
        <p:spPr>
          <a:xfrm>
            <a:off x="-152280" y="1251000"/>
            <a:ext cx="9296280" cy="5229000"/>
          </a:xfrm>
          <a:prstGeom prst="rect">
            <a:avLst/>
          </a:prstGeom>
          <a:ln w="0">
            <a:noFill/>
          </a:ln>
        </p:spPr>
      </p:pic>
      <p:sp>
        <p:nvSpPr>
          <p:cNvPr id="3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0" name="Picture 5" descr="hot-016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40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BANGLADESH CITY STREE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5" descr="image?id=78289&amp;rendTypeId=4"/>
          <p:cNvPicPr/>
          <p:nvPr/>
        </p:nvPicPr>
        <p:blipFill>
          <a:blip r:embed="rId1"/>
          <a:stretch/>
        </p:blipFill>
        <p:spPr>
          <a:xfrm>
            <a:off x="0" y="1219320"/>
            <a:ext cx="5562720" cy="3852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population%20dinesty"/>
          <p:cNvPicPr/>
          <p:nvPr/>
        </p:nvPicPr>
        <p:blipFill>
          <a:blip r:embed="rId2"/>
          <a:stretch/>
        </p:blipFill>
        <p:spPr>
          <a:xfrm>
            <a:off x="4989600" y="2362320"/>
            <a:ext cx="4005000" cy="4286160"/>
          </a:xfrm>
          <a:prstGeom prst="rect">
            <a:avLst/>
          </a:prstGeom>
          <a:ln w="0">
            <a:noFill/>
          </a:ln>
        </p:spPr>
      </p:pic>
      <p:sp>
        <p:nvSpPr>
          <p:cNvPr id="4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BANGLADESH POVERT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7" name="Picture 5" descr="2334850757_9c87182d9e"/>
          <p:cNvPicPr/>
          <p:nvPr/>
        </p:nvPicPr>
        <p:blipFill>
          <a:blip r:embed="rId1"/>
          <a:stretch/>
        </p:blipFill>
        <p:spPr>
          <a:xfrm>
            <a:off x="380880" y="1752480"/>
            <a:ext cx="3314880" cy="4762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Slum+Dhaka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5153040"/>
          </a:xfrm>
          <a:prstGeom prst="rect">
            <a:avLst/>
          </a:prstGeom>
          <a:ln w="0">
            <a:noFill/>
          </a:ln>
        </p:spPr>
      </p:pic>
      <p:sp>
        <p:nvSpPr>
          <p:cNvPr id="40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5" descr="Bamboo01"/>
          <p:cNvPicPr/>
          <p:nvPr/>
        </p:nvPicPr>
        <p:blipFill>
          <a:blip r:embed="rId1"/>
          <a:stretch/>
        </p:blipFill>
        <p:spPr>
          <a:xfrm>
            <a:off x="3581280" y="457200"/>
            <a:ext cx="5257800" cy="3551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banglahovellow"/>
          <p:cNvPicPr/>
          <p:nvPr/>
        </p:nvPicPr>
        <p:blipFill>
          <a:blip r:embed="rId2"/>
          <a:stretch/>
        </p:blipFill>
        <p:spPr>
          <a:xfrm>
            <a:off x="457200" y="28195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4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EAST AND WEST PAKISTA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Picture 5" descr="http://farm1.staticflickr.com/97/212352061_393c86b8d4.jpg"/>
          <p:cNvPicPr/>
          <p:nvPr/>
        </p:nvPicPr>
        <p:blipFill>
          <a:blip r:embed="rId1"/>
          <a:stretch/>
        </p:blipFill>
        <p:spPr>
          <a:xfrm>
            <a:off x="762120" y="13716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West and East shared religion (Muslim), but had ethnic differenc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971 civil war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East Pakistan won its independence and formed the country of Bangladesh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Helped by Indi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327672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534c"/>
                </a:solidFill>
                <a:latin typeface="Book Antiqua"/>
              </a:rPr>
              <a:t>ISLAMIC REPUBLIC OF </a:t>
            </a:r>
            <a:r>
              <a:rPr b="0" lang="en-US" sz="4800" spc="-1" strike="noStrike">
                <a:solidFill>
                  <a:srgbClr val="47534c"/>
                </a:solidFill>
                <a:latin typeface="Book Antiqua"/>
              </a:rPr>
              <a:t>PAKISTAN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4" name="Picture 10" descr="pakistan-flag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2898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Map of Pakistan"/>
          <p:cNvPicPr/>
          <p:nvPr/>
        </p:nvPicPr>
        <p:blipFill>
          <a:blip r:embed="rId2"/>
          <a:stretch/>
        </p:blipFill>
        <p:spPr>
          <a:xfrm>
            <a:off x="284040" y="317520"/>
            <a:ext cx="4024440" cy="2263680"/>
          </a:xfrm>
          <a:prstGeom prst="rect">
            <a:avLst/>
          </a:prstGeom>
          <a:ln w="0">
            <a:noFill/>
          </a:ln>
        </p:spPr>
      </p:pic>
      <p:sp>
        <p:nvSpPr>
          <p:cNvPr id="34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Badshahi Mosque in Lahore "/>
          <p:cNvPicPr/>
          <p:nvPr/>
        </p:nvPicPr>
        <p:blipFill>
          <a:blip r:embed="rId1"/>
          <a:stretch/>
        </p:blipFill>
        <p:spPr>
          <a:xfrm>
            <a:off x="0" y="0"/>
            <a:ext cx="5943600" cy="3724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Market in Lahore"/>
          <p:cNvPicPr/>
          <p:nvPr/>
        </p:nvPicPr>
        <p:blipFill>
          <a:blip r:embed="rId2"/>
          <a:stretch/>
        </p:blipFill>
        <p:spPr>
          <a:xfrm>
            <a:off x="4856040" y="4991040"/>
            <a:ext cx="4267440" cy="1866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Vendor reads newspaper in Pakistan market"/>
          <p:cNvPicPr/>
          <p:nvPr/>
        </p:nvPicPr>
        <p:blipFill>
          <a:blip r:embed="rId3"/>
          <a:stretch/>
        </p:blipFill>
        <p:spPr>
          <a:xfrm>
            <a:off x="6019920" y="533520"/>
            <a:ext cx="2895480" cy="3686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hristians protest against Pakistani blasphemy laws, August 2012"/>
          <p:cNvPicPr/>
          <p:nvPr/>
        </p:nvPicPr>
        <p:blipFill>
          <a:blip r:embed="rId4"/>
          <a:stretch/>
        </p:blipFill>
        <p:spPr>
          <a:xfrm>
            <a:off x="304920" y="3962520"/>
            <a:ext cx="4332240" cy="2666880"/>
          </a:xfrm>
          <a:prstGeom prst="rect">
            <a:avLst/>
          </a:prstGeom>
          <a:ln w="0">
            <a:noFill/>
          </a:ln>
        </p:spPr>
      </p:pic>
      <p:sp>
        <p:nvSpPr>
          <p:cNvPr id="3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POLITIC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617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Corruption, inefficiency, and military rule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ilitary rule </a:t>
            </a:r>
            <a:r>
              <a:rPr b="0" lang="en-US" sz="28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failed economy and failed stabilit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Government can’t control the tribal regions along the Afghan border where there are Taliban linked militant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plit between Islamist militancy and modernizing secular (non religious) group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0" y="1752480"/>
            <a:ext cx="86104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became strategically important after 9/11 to the United States’ “War on Terror.”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denied accusation of al-Qaeda and Taliban leaders in their tribal region and then Osama bin Laden was found there! Hurt relationship with the U.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deadliest countries in the world for journalism where media is strictly controll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Filtered for blasphemy (anti-religious), anti-state or anti-militar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KASHMIR REGION DISPUT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fter independence from the British and the Partition the region of Kashmir got to decided which country they wanted to be a part of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rince of Kashmir was Hindu and wanted to go with India; majority of people are Muslim and wanted to go with Pakista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egion split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2/3 is India and 1/3 is Pakista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1:40:00Z</dcterms:created>
  <dc:creator>Lindsey Barnes</dc:creator>
  <dc:description/>
  <dc:language>en-US</dc:language>
  <cp:lastModifiedBy>Barnes, Lindsey</cp:lastModifiedBy>
  <cp:lastPrinted>2011-12-22T21:42:00Z</cp:lastPrinted>
  <dcterms:modified xsi:type="dcterms:W3CDTF">2016-02-23T16:26:28Z</dcterms:modified>
  <cp:revision>29</cp:revision>
  <dc:subject/>
  <dc:title>Chapter 25, Section 2</dc:title>
</cp:coreProperties>
</file>