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37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842-2931-417C-BED3-4C302D7C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871-DDF3-4FC3-83DA-3EDF0B63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0E9-7482-40F2-8FF9-58AA95FA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9CB-B3B3-472E-B9AC-BEF4F14D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550A-A47C-4A63-8D07-CE9BE99C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F82C-2978-4019-8910-F1E3C725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E522-A47F-4652-A418-5FF5360D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7664-531D-41A5-913F-8FB6164C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65E2-ABA1-4D38-AA49-1268D1E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607E-9C55-4CAC-A7DE-E3874D52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47EE-8DCD-4DB8-A96C-9B0ADAEC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83E-3EFC-471E-AA19-EB5E48CA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5B15-CA84-4A57-94F1-ECE58D04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2749-D88C-472F-858B-3162D51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E2F8-BDEE-4724-8C7A-E863F2FB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E1AA-7B08-43F1-B298-833990AE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040F-0864-4153-8727-9704E048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59B3-16B7-4AD7-AAB4-22F806F2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7CF2-395A-4789-9CF2-95393318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80BE-53FE-4622-8749-918DA34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15072-DAF4-4FF0-902C-930C2230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44D7-FF03-4954-BE02-A2068D1F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A69-DE62-4EF5-9E6E-E9DF8BF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F05F-C3F8-42D4-BD98-A61C4730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E671-0BAA-4624-8AC2-9A7C6E6A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6F1B-E9BE-4520-BD7F-1779ADD5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D3FF-EB4D-4D00-9323-219E337A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5F7BC-C67B-43D7-9260-FD1CC8A6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62DB-F4A6-414D-8746-ED35D558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EFC4-F3F6-4135-9482-9BF4C125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BA71-0A3F-4ECA-92BA-3221AD57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7E06D-1A69-4B50-B5AA-7E75E6E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043E-6448-43DA-A239-1756A0EA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B50-DEF4-4A88-BB7D-965E96B9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BFDE2-6C4A-4EF5-8617-0692DCF9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C48E-623E-46D1-B1C9-09A652AB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E8A7-1D7F-43DD-81A0-AC900606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0C8B-397F-4A86-A431-3966EE1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7A96-7F63-4023-8E9E-41B8B2B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84C2-E3C1-462D-849A-CAC61286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F4648-E0DF-4E0C-AF62-32EA5C30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AE52C-D6DE-48D0-BDDC-548CD9A5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BAF99-E720-4F01-95EB-D5AFAC07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0557-C317-48D0-897F-91E4C2BC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778-7E0E-4233-BB65-5C46367A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6168-1129-473B-A7A7-60410223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FD71-7AB4-40C2-9AC1-BBEEE433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EE81-0E39-4469-8C1F-00B4B426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65779-3BF1-43CA-96CE-85BB37FA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CE2D4-2C62-443E-86A8-EFDF42F6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05EA6-778A-41AD-961C-C7F08DD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60173-C6C5-4B5F-A144-8DC08CD1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72F1-75EE-4193-95AF-E88D7164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0F5E-0B50-4390-AD61-F54ECE49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18365-83E5-4776-BE77-64C5DAA7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760-C06B-43BD-AC4D-B084D00E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05BB-3D1D-47AD-82DF-94586A36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F5B37-080E-4E8E-B4DF-8CFC6D91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25675-6382-4AD8-8F19-C9ACAA14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FC68F-3899-4236-AD8E-1EB7A466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FFB8C-4078-4F00-87CB-37D33FDB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0F6D3-E973-4011-84BF-636C9D70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4E591-F563-4D76-BDFB-436426D8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704DA-7DA7-4584-8368-0C03B3A9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5C590-C985-4B51-A596-219008B2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CDE43-AC90-46EA-B2B9-B7DCC116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659-6E20-4AB0-A9B4-E5E899C1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16D0A-5C1C-4DEE-8CC0-1B27A0E1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61587-A3FB-4AA1-A0F5-417668EA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753A9-17E5-43BC-B43F-0D69C700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B962-E59C-430A-9B27-4CB5A758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7B4A5-F196-416B-AFA9-5EBC6A54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D8FB0-F69E-4262-80C8-9F68171F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CDBEB-B8BF-4D3E-A167-ABF5B8FF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2427-24B4-4136-9A64-70C1BE12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7F86B-57B8-4724-A8A2-396AF6BB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879D8-C93B-452F-985C-1DDDEE6B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435-A0F3-477B-B0E4-955C7B97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D6106-1436-4D81-8304-02E4AE36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1DD85-0586-4EE9-AA6B-BE31181E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042E3-BCBE-49AF-A7EE-AED1504A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61567-FAB2-4EE9-BD24-57E55060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2869A-9FF7-434D-B521-F8FD6622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FEF-F62D-4BA0-83D5-B2649CF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D08D-5D99-477E-B949-AEEDA5C0CF82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E6A7-0F7C-4C8F-B529-04AD53FF0358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110D-A505-4E4D-B40E-B188E9F0659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599B-C002-4279-93D8-A0A6BF15641D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9A9C-B237-473A-BA20-82A22EC85871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1387-151B-40FF-B249-41DD643BB69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A05B-44D1-45C2-8D05-7BE5E773828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36560" y="3200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PAKISTAN AND BANGLADESH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2" name="Picture 7" descr="http://www.oocities.org/thalsena/oldindia.jpg"/>
          <p:cNvPicPr/>
          <p:nvPr/>
        </p:nvPicPr>
        <p:blipFill>
          <a:blip r:embed="rId1"/>
          <a:stretch/>
        </p:blipFill>
        <p:spPr>
          <a:xfrm>
            <a:off x="155520" y="127080"/>
            <a:ext cx="3730680" cy="3054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http://www.themuslimtimes.org/wp-content/uploads/2013/05/Pakistan-Bangladesh.jpg"/>
          <p:cNvPicPr/>
          <p:nvPr/>
        </p:nvPicPr>
        <p:blipFill>
          <a:blip r:embed="rId2"/>
          <a:stretch/>
        </p:blipFill>
        <p:spPr>
          <a:xfrm>
            <a:off x="5867280" y="4392720"/>
            <a:ext cx="3056040" cy="2444760"/>
          </a:xfrm>
          <a:prstGeom prst="rect">
            <a:avLst/>
          </a:prstGeom>
          <a:ln w="0">
            <a:noFill/>
          </a:ln>
        </p:spPr>
      </p:pic>
      <p:sp>
        <p:nvSpPr>
          <p:cNvPr id="3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b7d72"/>
                </a:solidFill>
                <a:latin typeface="Book Antiqua"/>
              </a:rPr>
              <a:t>GREEN-PAKISTAN, BLUE-INDIA, YELLOW-CHINA</a:t>
            </a:r>
            <a:endParaRPr b="0" lang="en-US" sz="34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1" name="Picture 8" descr="764px-Kashmir_map"/>
          <p:cNvPicPr/>
          <p:nvPr/>
        </p:nvPicPr>
        <p:blipFill>
          <a:blip r:embed="rId1"/>
          <a:stretch/>
        </p:blipFill>
        <p:spPr>
          <a:xfrm>
            <a:off x="1143000" y="1292400"/>
            <a:ext cx="7086600" cy="5565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56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and India both have nuclear weapons and are on the brink of conflic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08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Muslim extremists attacked Ind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ndia accuses Pakistan of not cooperating in the investiga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Islamic country where instability lies with competing ethnic group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.S. continues drone strikes in areas where they believe there are Taliban training camp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trikes are condemned by the UN and controversial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LIG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ost people are Muslim in religion but different have ethniciti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follows  British law but is highly influenced by Sharia Law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he custom of </a:t>
            </a:r>
            <a:r>
              <a:rPr b="0" i="1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urdah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allows the seclusion of women in the rural areas (Taliban controlled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lasphemy law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death sentence if it is believed a person has dishonored Islam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PAKISTA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9" name="Picture 8" descr="20060418-india-pakistan-border"/>
          <p:cNvPicPr/>
          <p:nvPr/>
        </p:nvPicPr>
        <p:blipFill>
          <a:blip r:embed="rId1"/>
          <a:stretch/>
        </p:blipFill>
        <p:spPr>
          <a:xfrm>
            <a:off x="2349360" y="1938240"/>
            <a:ext cx="4445280" cy="4000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Pakistan"/>
          <p:cNvPicPr/>
          <p:nvPr/>
        </p:nvPicPr>
        <p:blipFill>
          <a:blip r:embed="rId2"/>
          <a:stretch/>
        </p:blipFill>
        <p:spPr>
          <a:xfrm>
            <a:off x="228600" y="1025640"/>
            <a:ext cx="5257800" cy="3679560"/>
          </a:xfrm>
          <a:prstGeom prst="rect">
            <a:avLst/>
          </a:prstGeom>
          <a:ln w="0">
            <a:noFill/>
          </a:ln>
        </p:spPr>
      </p:pic>
      <p:sp>
        <p:nvSpPr>
          <p:cNvPr id="37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Elphinstone%20St%20Karachi%2002"/>
          <p:cNvPicPr/>
          <p:nvPr/>
        </p:nvPicPr>
        <p:blipFill>
          <a:blip r:embed="rId1"/>
          <a:stretch/>
        </p:blipFill>
        <p:spPr>
          <a:xfrm>
            <a:off x="2666880" y="2362320"/>
            <a:ext cx="6172200" cy="431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Lahore,%20Pakistan"/>
          <p:cNvPicPr/>
          <p:nvPr/>
        </p:nvPicPr>
        <p:blipFill>
          <a:blip r:embed="rId2"/>
          <a:stretch/>
        </p:blipFill>
        <p:spPr>
          <a:xfrm>
            <a:off x="0" y="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3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7" name="Picture 5" descr="pakistan_1"/>
          <p:cNvPicPr/>
          <p:nvPr/>
        </p:nvPicPr>
        <p:blipFill>
          <a:blip r:embed="rId1"/>
          <a:stretch/>
        </p:blipFill>
        <p:spPr>
          <a:xfrm>
            <a:off x="609480" y="609480"/>
            <a:ext cx="7858080" cy="5896080"/>
          </a:xfrm>
          <a:prstGeom prst="rect">
            <a:avLst/>
          </a:prstGeom>
          <a:ln w="0">
            <a:noFill/>
          </a:ln>
        </p:spPr>
      </p:pic>
      <p:sp>
        <p:nvSpPr>
          <p:cNvPr id="37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275193325_273ed4cdbd"/>
          <p:cNvPicPr/>
          <p:nvPr/>
        </p:nvPicPr>
        <p:blipFill>
          <a:blip r:embed="rId1"/>
          <a:stretch/>
        </p:blipFill>
        <p:spPr>
          <a:xfrm>
            <a:off x="2895480" y="228600"/>
            <a:ext cx="5905800" cy="3944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610x"/>
          <p:cNvPicPr/>
          <p:nvPr/>
        </p:nvPicPr>
        <p:blipFill>
          <a:blip r:embed="rId2"/>
          <a:stretch/>
        </p:blipFill>
        <p:spPr>
          <a:xfrm>
            <a:off x="152280" y="3133800"/>
            <a:ext cx="5810400" cy="3724200"/>
          </a:xfrm>
          <a:prstGeom prst="rect">
            <a:avLst/>
          </a:prstGeom>
          <a:ln w="0">
            <a:noFill/>
          </a:ln>
        </p:spPr>
      </p:pic>
      <p:sp>
        <p:nvSpPr>
          <p:cNvPr id="38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Pakistan"/>
          <p:cNvPicPr/>
          <p:nvPr/>
        </p:nvPicPr>
        <p:blipFill>
          <a:blip r:embed="rId1"/>
          <a:stretch/>
        </p:blipFill>
        <p:spPr>
          <a:xfrm>
            <a:off x="2590920" y="152280"/>
            <a:ext cx="6400800" cy="4146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610x"/>
          <p:cNvPicPr/>
          <p:nvPr/>
        </p:nvPicPr>
        <p:blipFill>
          <a:blip r:embed="rId2"/>
          <a:stretch/>
        </p:blipFill>
        <p:spPr>
          <a:xfrm>
            <a:off x="0" y="3187800"/>
            <a:ext cx="5257800" cy="350820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BANGLADESH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6" name="Picture 5" descr="Bangladesh"/>
          <p:cNvPicPr/>
          <p:nvPr/>
        </p:nvPicPr>
        <p:blipFill>
          <a:blip r:embed="rId1"/>
          <a:stretch/>
        </p:blipFill>
        <p:spPr>
          <a:xfrm>
            <a:off x="4697280" y="0"/>
            <a:ext cx="4446720" cy="2666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Map of Bangladesh"/>
          <p:cNvPicPr/>
          <p:nvPr/>
        </p:nvPicPr>
        <p:blipFill>
          <a:blip r:embed="rId2"/>
          <a:stretch/>
        </p:blipFill>
        <p:spPr>
          <a:xfrm>
            <a:off x="152280" y="255600"/>
            <a:ext cx="4335480" cy="2438280"/>
          </a:xfrm>
          <a:prstGeom prst="rect">
            <a:avLst/>
          </a:prstGeom>
          <a:ln w="0">
            <a:noFill/>
          </a:ln>
        </p:spPr>
      </p:pic>
      <p:sp>
        <p:nvSpPr>
          <p:cNvPr id="3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045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world’s most densely populated cities all crammed around the delta of the Bay of Bengal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arge, rapidly growing populations with low per capita incomes and povert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poorest countries in the world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mall rural farming is the biggest busines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produces rice for expor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HISTOR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 baseline="30000">
                <a:solidFill>
                  <a:srgbClr val="564b3c"/>
                </a:solidFill>
                <a:latin typeface="Times New Roman"/>
                <a:ea typeface="Times New Roman"/>
              </a:rPr>
              <a:t>st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civilization was in the Indus Valley (Pakistan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uled by multiple empires throughout the ages including the Mughal and British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947 independence brought the Partition of British India creating Pakistan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1" marL="620280" indent="-221400">
              <a:lnSpc>
                <a:spcPct val="100000"/>
              </a:lnSpc>
              <a:spcBef>
                <a:spcPts val="7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ivided between East and West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rying to diversify its economy with industry and manufacturing (clothes) which has led to bad working condi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13 a garment factory collapsed and killed 1,000 people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litical animosity exists between the main political parties which has resulted in violence throughout the yea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ligious extremism has become a concern -- normally it is a moderate country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Government has outlawed two extremist groups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has been criticized for its treatment toward women and accusations that police use torture of people in custod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51920" y="5331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ife revolves around the family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rranged marriages and large extended families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ost people live in small villages of simple homes. 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etry, music and dance are very popular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is a low lying country which faces flooding and rising sea levels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Boys in Dhaka play in flood waters"/>
          <p:cNvPicPr/>
          <p:nvPr/>
        </p:nvPicPr>
        <p:blipFill>
          <a:blip r:embed="rId1"/>
          <a:stretch/>
        </p:blipFill>
        <p:spPr>
          <a:xfrm>
            <a:off x="0" y="633240"/>
            <a:ext cx="9296280" cy="5229360"/>
          </a:xfrm>
          <a:prstGeom prst="rect">
            <a:avLst/>
          </a:prstGeom>
          <a:ln w="0">
            <a:noFill/>
          </a:ln>
        </p:spPr>
      </p:pic>
      <p:sp>
        <p:nvSpPr>
          <p:cNvPr id="39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Boats vie for passengers in flooded Sirajganj"/>
          <p:cNvPicPr/>
          <p:nvPr/>
        </p:nvPicPr>
        <p:blipFill>
          <a:blip r:embed="rId1"/>
          <a:stretch/>
        </p:blipFill>
        <p:spPr>
          <a:xfrm>
            <a:off x="-152280" y="1251000"/>
            <a:ext cx="9296280" cy="522900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0" name="Picture 5" descr="hot-016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40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ANGLADESH CITY STREE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5" descr="image?id=78289&amp;rendTypeId=4"/>
          <p:cNvPicPr/>
          <p:nvPr/>
        </p:nvPicPr>
        <p:blipFill>
          <a:blip r:embed="rId1"/>
          <a:stretch/>
        </p:blipFill>
        <p:spPr>
          <a:xfrm>
            <a:off x="0" y="1219320"/>
            <a:ext cx="5562720" cy="3852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population%20dinesty"/>
          <p:cNvPicPr/>
          <p:nvPr/>
        </p:nvPicPr>
        <p:blipFill>
          <a:blip r:embed="rId2"/>
          <a:stretch/>
        </p:blipFill>
        <p:spPr>
          <a:xfrm>
            <a:off x="4989600" y="2362320"/>
            <a:ext cx="4005000" cy="4286160"/>
          </a:xfrm>
          <a:prstGeom prst="rect">
            <a:avLst/>
          </a:prstGeom>
          <a:ln w="0">
            <a:noFill/>
          </a:ln>
        </p:spPr>
      </p:pic>
      <p:sp>
        <p:nvSpPr>
          <p:cNvPr id="4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ANGLADESH POVERT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7" name="Picture 5" descr="2334850757_9c87182d9e"/>
          <p:cNvPicPr/>
          <p:nvPr/>
        </p:nvPicPr>
        <p:blipFill>
          <a:blip r:embed="rId1"/>
          <a:stretch/>
        </p:blipFill>
        <p:spPr>
          <a:xfrm>
            <a:off x="380880" y="1752480"/>
            <a:ext cx="3314880" cy="4762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Slum+Dhaka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5153040"/>
          </a:xfrm>
          <a:prstGeom prst="rect">
            <a:avLst/>
          </a:prstGeom>
          <a:ln w="0">
            <a:noFill/>
          </a:ln>
        </p:spPr>
      </p:pic>
      <p:sp>
        <p:nvSpPr>
          <p:cNvPr id="4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Bamboo01"/>
          <p:cNvPicPr/>
          <p:nvPr/>
        </p:nvPicPr>
        <p:blipFill>
          <a:blip r:embed="rId1"/>
          <a:stretch/>
        </p:blipFill>
        <p:spPr>
          <a:xfrm>
            <a:off x="3581280" y="457200"/>
            <a:ext cx="5257800" cy="3551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banglahovellow"/>
          <p:cNvPicPr/>
          <p:nvPr/>
        </p:nvPicPr>
        <p:blipFill>
          <a:blip r:embed="rId2"/>
          <a:stretch/>
        </p:blipFill>
        <p:spPr>
          <a:xfrm>
            <a:off x="457200" y="28195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4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EAST AND WEST PAKISTA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Picture 5" descr="http://farm1.staticflickr.com/97/212352061_393c86b8d4.jpg"/>
          <p:cNvPicPr/>
          <p:nvPr/>
        </p:nvPicPr>
        <p:blipFill>
          <a:blip r:embed="rId1"/>
          <a:stretch/>
        </p:blipFill>
        <p:spPr>
          <a:xfrm>
            <a:off x="762120" y="13716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West and East shared religion (Muslim), but had ethnic differenc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971 civil war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East Pakistan won its independence and formed the country of Bangladesh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elped by Ind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32767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534c"/>
                </a:solidFill>
                <a:latin typeface="Book Antiqua"/>
              </a:rPr>
              <a:t>ISLAMIC REPUBLIC OF </a:t>
            </a:r>
            <a:r>
              <a:rPr b="0" lang="en-US" sz="4800" spc="-1" strike="noStrike">
                <a:solidFill>
                  <a:srgbClr val="47534c"/>
                </a:solidFill>
                <a:latin typeface="Book Antiqua"/>
              </a:rPr>
              <a:t>PAKISTAN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4" name="Picture 10" descr="pakistan-flag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2898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Map of Pakistan"/>
          <p:cNvPicPr/>
          <p:nvPr/>
        </p:nvPicPr>
        <p:blipFill>
          <a:blip r:embed="rId2"/>
          <a:stretch/>
        </p:blipFill>
        <p:spPr>
          <a:xfrm>
            <a:off x="284040" y="317520"/>
            <a:ext cx="4024440" cy="2263680"/>
          </a:xfrm>
          <a:prstGeom prst="rect">
            <a:avLst/>
          </a:prstGeom>
          <a:ln w="0">
            <a:noFill/>
          </a:ln>
        </p:spPr>
      </p:pic>
      <p:sp>
        <p:nvSpPr>
          <p:cNvPr id="34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Badshahi Mosque in Lahore "/>
          <p:cNvPicPr/>
          <p:nvPr/>
        </p:nvPicPr>
        <p:blipFill>
          <a:blip r:embed="rId1"/>
          <a:stretch/>
        </p:blipFill>
        <p:spPr>
          <a:xfrm>
            <a:off x="0" y="0"/>
            <a:ext cx="5943600" cy="3724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Market in Lahore"/>
          <p:cNvPicPr/>
          <p:nvPr/>
        </p:nvPicPr>
        <p:blipFill>
          <a:blip r:embed="rId2"/>
          <a:stretch/>
        </p:blipFill>
        <p:spPr>
          <a:xfrm>
            <a:off x="4856040" y="499104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Vendor reads newspaper in Pakistan market"/>
          <p:cNvPicPr/>
          <p:nvPr/>
        </p:nvPicPr>
        <p:blipFill>
          <a:blip r:embed="rId3"/>
          <a:stretch/>
        </p:blipFill>
        <p:spPr>
          <a:xfrm>
            <a:off x="6019920" y="533520"/>
            <a:ext cx="2895480" cy="3686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hristians protest against Pakistani blasphemy laws, August 2012"/>
          <p:cNvPicPr/>
          <p:nvPr/>
        </p:nvPicPr>
        <p:blipFill>
          <a:blip r:embed="rId4"/>
          <a:stretch/>
        </p:blipFill>
        <p:spPr>
          <a:xfrm>
            <a:off x="304920" y="3962520"/>
            <a:ext cx="4332240" cy="2666880"/>
          </a:xfrm>
          <a:prstGeom prst="rect">
            <a:avLst/>
          </a:prstGeom>
          <a:ln w="0">
            <a:noFill/>
          </a:ln>
        </p:spPr>
      </p:pic>
      <p:sp>
        <p:nvSpPr>
          <p:cNvPr id="3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POLITIC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617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orruption, inefficiency, and military rule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ilitary rule </a:t>
            </a:r>
            <a:r>
              <a:rPr b="0" lang="en-US" sz="28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failed economy and failed stabilit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Government can’t control the tribal regions along the Afghan border where there are Taliban linked militant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plit between Islamist militancy and modernizing secular (non religious) group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0" y="1752480"/>
            <a:ext cx="86104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became strategically important after 9/11 to the United States’ “War on Terror.”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denied accusation of al-Qaeda and Taliban leaders in their tribal region and then Osama bin Laden was found there! Hurt relationship with the U.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deadliest countries in the world for journalism where media is strictly controll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Filtered for blasphemy (anti-religious), anti-state or anti-militar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KASHMIR REGION DISPUT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fter independence from the British and the Partition the region of Kashmir got to decided which country they wanted to be a part of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rince of Kashmir was Hindu and wanted to go with India; majority of people are Muslim and wanted to go with Pakist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gion split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2/3 is India and 1/3 is Pakist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1:40:00Z</dcterms:created>
  <dc:creator>Lindsey Barnes</dc:creator>
  <dc:description/>
  <dc:language>en-US</dc:language>
  <cp:lastModifiedBy>Barnes, Lindsey</cp:lastModifiedBy>
  <cp:lastPrinted>2011-12-22T21:42:00Z</cp:lastPrinted>
  <dcterms:modified xsi:type="dcterms:W3CDTF">2016-02-23T16:26:28Z</dcterms:modified>
  <cp:revision>29</cp:revision>
  <dc:subject/>
  <dc:title>Chapter 25, Section 2</dc:title>
</cp:coreProperties>
</file>