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6.jpeg" ContentType="image/jpeg"/>
  <Override PartName="/ppt/media/image37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BA8-66B6-4988-BCB3-A0FB418D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BA2-299C-471C-B939-67C21338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7DF-89C5-44EA-9999-561D874E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37A-CF89-4156-AC0C-3D2F5FAA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7FF3-8045-4835-8E22-A6C1A5CA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47C6-6ECE-4D63-B5E3-AFB54648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307D-7E34-468E-B2E5-A87E97FE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B1AA-58C4-485C-A180-2792D2CF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5F39-61A2-4851-AB93-7C98C1BB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666B-A680-48ED-93B7-37105FA9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CCC7-AB19-4D59-8DB0-AB79457F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42A-031A-481F-A520-B89784FA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30E6-EF39-4CD3-A8A9-ABE0D14B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4D1F-4AF7-4BBB-8D1E-389C5C6B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9A27-B8B3-496C-8591-0D50C099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9F95-524E-4595-8E48-AC0D0946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E766-376C-4E9E-8CD6-23642C45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720BA-6715-4CA2-9ADA-1FBA07D7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CA409-2BE8-4C93-ADE3-31AD44FB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D88B0-F9DC-468B-8A99-C128F6E8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15567-629F-49A0-8D67-F3685DC0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B1CD2-BD28-4E4D-AE21-47A6D949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72E-5C9B-4185-9234-5F95AD47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B0C20-2884-44AF-9BD5-A87B645A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7EB14-F827-454C-8DEB-99AF8FC8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5BCEE-70A8-4D5F-94C5-07ACD6D0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B4D90-7C78-49BF-8A52-BBBDD2DC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B406-55FD-4449-9819-5A5074FB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3889B-3B13-4310-A673-91DC291D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F1CBD-B1C9-475B-86BD-D9791832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AC4BC-1BC7-4071-ADCD-418B2C1E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062FE-14CC-4A89-B672-35045954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CE0E5-155A-4679-B759-412FA4DF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A39-0E53-45D5-AC20-AC0AA496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8C99F-781A-4E29-B5CF-EA1D3FC9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833E6-039D-4085-A333-539CC710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B4278-4C65-4748-9282-CAE3B212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DC86F-52F7-44BF-9B39-02F325D7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580BA-9E0F-4BBB-84AD-C5F21383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5C58B-B453-400B-8392-5D74AA50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1138B-E3C7-4A04-8126-F8244CF6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97FD2-943E-4C10-BF36-DE3F1066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630E7-1289-4704-AE30-6B83553F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003B1-5E57-4786-BD66-06CCA8C3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EE8-4D53-4873-98EB-06016017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E9AC3-3B86-4683-A165-D2D27DA9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5AD06-B485-42C6-BEAC-B36A52D8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D5E3B-DD3E-418E-A9B0-4BC6E8ED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09EC2-7DE1-4029-9AD0-78DE40EF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F459E-1C2C-4FDD-BBB6-B18426EB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DB450-A11E-4315-BA44-39D67371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897BD-6258-4865-8499-51D172CC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AED68-6EFD-4C84-9F11-A6B3A7EE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63153-3604-4ECB-8108-E952F88E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369BB-013D-446F-9034-E40A51B6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D3F6-36E4-4453-974C-2EC090AB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E5EA6-8EC6-4A59-ABEA-3CBDC7F3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71EF3-264F-43AA-BDC5-612A14E0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E29A4C-A8C4-4869-A7D2-2A53AF20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002701-09E0-4887-B273-ECC50E2F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EA763-9BBA-4B16-9B7B-3B21DAFC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02233-7397-4BD5-98B4-9E570A75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4B9A29-A4DB-4ABD-85F0-C67D8C06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1AD33-700F-49E2-9991-CBB7E90A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2C1A7-1D47-43C9-82E1-00A60CC8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68BBC-DE73-4E22-97AF-ADD3C099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FC4-4EC9-4FD3-AFE4-39D3C2EC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0BDBD-2089-4C8E-B237-E47D754C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51A7A8-16FD-42B2-B86D-447FAB59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916CB-5D17-4526-8FFF-D103ACCF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C077A-1D60-4617-8987-FB28DA03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EB7D6-D523-4749-B9A3-0D0A634B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71123-194E-42F6-8A7F-9546CD81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8F6E2-F8EC-4D52-8F18-678C92A4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B46BA-7D12-48E5-89A7-B45D2660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D11D2-0906-46F3-90C7-E2910504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5796D-3EC5-4050-9F94-8E51B277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AB6-671D-4C59-84F2-AF3A9615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EC937-EFF0-472E-B972-9BCC74FE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535F5-A3B1-4566-B967-2F7B219B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F2CF3-D476-44C7-AE33-84558130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E37EA-4947-4997-893F-5EF6B30E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CE541-BFA3-4C19-A106-71331D39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F622-5144-463D-BA5C-3EA58EF1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6159-B603-4EE7-A395-9D7CDB06DA05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2716-C6E0-450F-956C-00936F6ACE80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790B-6370-454E-9E66-40425716DD58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40BA-E45A-4A74-AD2F-4F68986846F2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4C0C-6AF6-4CD7-BD2F-8FE72FE8DEE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02B9-8123-45A7-8762-F71C6C4F3B5D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79BD-0E03-475B-8483-9CDC73205806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36560" y="32004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PAKISTAN AND BANGLADESH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2" name="Picture 7" descr="http://www.oocities.org/thalsena/oldindia.jpg"/>
          <p:cNvPicPr/>
          <p:nvPr/>
        </p:nvPicPr>
        <p:blipFill>
          <a:blip r:embed="rId1"/>
          <a:stretch/>
        </p:blipFill>
        <p:spPr>
          <a:xfrm>
            <a:off x="155520" y="127080"/>
            <a:ext cx="3730680" cy="3054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http://www.themuslimtimes.org/wp-content/uploads/2013/05/Pakistan-Bangladesh.jpg"/>
          <p:cNvPicPr/>
          <p:nvPr/>
        </p:nvPicPr>
        <p:blipFill>
          <a:blip r:embed="rId2"/>
          <a:stretch/>
        </p:blipFill>
        <p:spPr>
          <a:xfrm>
            <a:off x="5867280" y="4392720"/>
            <a:ext cx="3056040" cy="2444760"/>
          </a:xfrm>
          <a:prstGeom prst="rect">
            <a:avLst/>
          </a:prstGeom>
          <a:ln w="0">
            <a:noFill/>
          </a:ln>
        </p:spPr>
      </p:pic>
      <p:sp>
        <p:nvSpPr>
          <p:cNvPr id="33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b7d72"/>
                </a:solidFill>
                <a:latin typeface="Book Antiqua"/>
              </a:rPr>
              <a:t>GREEN-PAKISTAN, BLUE-INDIA, YELLOW-CHINA</a:t>
            </a:r>
            <a:endParaRPr b="0" lang="en-US" sz="34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1" name="Picture 8" descr="764px-Kashmir_map"/>
          <p:cNvPicPr/>
          <p:nvPr/>
        </p:nvPicPr>
        <p:blipFill>
          <a:blip r:embed="rId1"/>
          <a:stretch/>
        </p:blipFill>
        <p:spPr>
          <a:xfrm>
            <a:off x="1143000" y="1292400"/>
            <a:ext cx="7086600" cy="5565600"/>
          </a:xfrm>
          <a:prstGeom prst="rect">
            <a:avLst/>
          </a:prstGeom>
          <a:ln w="0">
            <a:noFill/>
          </a:ln>
        </p:spPr>
      </p:pic>
      <p:sp>
        <p:nvSpPr>
          <p:cNvPr id="3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0456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and India both have nuclear weapons and are on the brink of conflic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008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Muslim extremists attacked India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ndia accuses Pakistan of not cooperating in the investigation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Islamic country where instability lies with competing ethnic group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U.S. continues drone strikes in areas where they believe there are Taliban training camp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trikes are condemned by the UN and controversial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RELIG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ost people are Muslim in religion but different have ethniciti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follows  British law but is highly influenced by Sharia Law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The custom of </a:t>
            </a:r>
            <a:r>
              <a:rPr b="0" i="1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urdah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allows the seclusion of women in the rural areas (Taliban controlled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lasphemy law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death sentence if it is believed a person has dishonored Islam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PAKISTA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9" name="Picture 8" descr="20060418-india-pakistan-border"/>
          <p:cNvPicPr/>
          <p:nvPr/>
        </p:nvPicPr>
        <p:blipFill>
          <a:blip r:embed="rId1"/>
          <a:stretch/>
        </p:blipFill>
        <p:spPr>
          <a:xfrm>
            <a:off x="2349360" y="1938240"/>
            <a:ext cx="4445280" cy="40006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Pakistan"/>
          <p:cNvPicPr/>
          <p:nvPr/>
        </p:nvPicPr>
        <p:blipFill>
          <a:blip r:embed="rId2"/>
          <a:stretch/>
        </p:blipFill>
        <p:spPr>
          <a:xfrm>
            <a:off x="228600" y="1025640"/>
            <a:ext cx="5257800" cy="3679560"/>
          </a:xfrm>
          <a:prstGeom prst="rect">
            <a:avLst/>
          </a:prstGeom>
          <a:ln w="0">
            <a:noFill/>
          </a:ln>
        </p:spPr>
      </p:pic>
      <p:sp>
        <p:nvSpPr>
          <p:cNvPr id="37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Elphinstone%20St%20Karachi%2002"/>
          <p:cNvPicPr/>
          <p:nvPr/>
        </p:nvPicPr>
        <p:blipFill>
          <a:blip r:embed="rId1"/>
          <a:stretch/>
        </p:blipFill>
        <p:spPr>
          <a:xfrm>
            <a:off x="2666880" y="2362320"/>
            <a:ext cx="6172200" cy="4319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Lahore,%20Pakistan"/>
          <p:cNvPicPr/>
          <p:nvPr/>
        </p:nvPicPr>
        <p:blipFill>
          <a:blip r:embed="rId2"/>
          <a:stretch/>
        </p:blipFill>
        <p:spPr>
          <a:xfrm>
            <a:off x="0" y="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3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7" name="Picture 5" descr="pakistan_1"/>
          <p:cNvPicPr/>
          <p:nvPr/>
        </p:nvPicPr>
        <p:blipFill>
          <a:blip r:embed="rId1"/>
          <a:stretch/>
        </p:blipFill>
        <p:spPr>
          <a:xfrm>
            <a:off x="609480" y="609480"/>
            <a:ext cx="7858080" cy="5896080"/>
          </a:xfrm>
          <a:prstGeom prst="rect">
            <a:avLst/>
          </a:prstGeom>
          <a:ln w="0">
            <a:noFill/>
          </a:ln>
        </p:spPr>
      </p:pic>
      <p:sp>
        <p:nvSpPr>
          <p:cNvPr id="37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275193325_273ed4cdbd"/>
          <p:cNvPicPr/>
          <p:nvPr/>
        </p:nvPicPr>
        <p:blipFill>
          <a:blip r:embed="rId1"/>
          <a:stretch/>
        </p:blipFill>
        <p:spPr>
          <a:xfrm>
            <a:off x="2895480" y="228600"/>
            <a:ext cx="5905800" cy="3944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610x"/>
          <p:cNvPicPr/>
          <p:nvPr/>
        </p:nvPicPr>
        <p:blipFill>
          <a:blip r:embed="rId2"/>
          <a:stretch/>
        </p:blipFill>
        <p:spPr>
          <a:xfrm>
            <a:off x="152280" y="3133800"/>
            <a:ext cx="5810400" cy="3724200"/>
          </a:xfrm>
          <a:prstGeom prst="rect">
            <a:avLst/>
          </a:prstGeom>
          <a:ln w="0">
            <a:noFill/>
          </a:ln>
        </p:spPr>
      </p:pic>
      <p:sp>
        <p:nvSpPr>
          <p:cNvPr id="38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Pakistan"/>
          <p:cNvPicPr/>
          <p:nvPr/>
        </p:nvPicPr>
        <p:blipFill>
          <a:blip r:embed="rId1"/>
          <a:stretch/>
        </p:blipFill>
        <p:spPr>
          <a:xfrm>
            <a:off x="2590920" y="152280"/>
            <a:ext cx="6400800" cy="4146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610x"/>
          <p:cNvPicPr/>
          <p:nvPr/>
        </p:nvPicPr>
        <p:blipFill>
          <a:blip r:embed="rId2"/>
          <a:stretch/>
        </p:blipFill>
        <p:spPr>
          <a:xfrm>
            <a:off x="0" y="3187800"/>
            <a:ext cx="5257800" cy="3508200"/>
          </a:xfrm>
          <a:prstGeom prst="rect">
            <a:avLst/>
          </a:prstGeom>
          <a:ln w="0">
            <a:noFill/>
          </a:ln>
        </p:spPr>
      </p:pic>
      <p:sp>
        <p:nvSpPr>
          <p:cNvPr id="38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BANGLADESH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6" name="Picture 5" descr="Bangladesh"/>
          <p:cNvPicPr/>
          <p:nvPr/>
        </p:nvPicPr>
        <p:blipFill>
          <a:blip r:embed="rId1"/>
          <a:stretch/>
        </p:blipFill>
        <p:spPr>
          <a:xfrm>
            <a:off x="4697280" y="0"/>
            <a:ext cx="4446720" cy="2666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Map of Bangladesh"/>
          <p:cNvPicPr/>
          <p:nvPr/>
        </p:nvPicPr>
        <p:blipFill>
          <a:blip r:embed="rId2"/>
          <a:stretch/>
        </p:blipFill>
        <p:spPr>
          <a:xfrm>
            <a:off x="152280" y="255600"/>
            <a:ext cx="4335480" cy="2438280"/>
          </a:xfrm>
          <a:prstGeom prst="rect">
            <a:avLst/>
          </a:prstGeom>
          <a:ln w="0">
            <a:noFill/>
          </a:ln>
        </p:spPr>
      </p:pic>
      <p:sp>
        <p:nvSpPr>
          <p:cNvPr id="38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04560" y="17521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One of the world’s most densely populated cities all crammed around the delta of the Bay of Bengal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Large, rapidly growing populations with low per capita incomes and poverty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one of the poorest countries in the world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mall rural farming is the biggest busines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angladesh produces rice for expor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HISTOR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 baseline="30000">
                <a:solidFill>
                  <a:srgbClr val="564b3c"/>
                </a:solidFill>
                <a:latin typeface="Times New Roman"/>
                <a:ea typeface="Times New Roman"/>
              </a:rPr>
              <a:t>st</a:t>
            </a: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civilization was in the Indus Valley (Pakistan)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Ruled by multiple empires throughout the ages including the Mughal and British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947 independence brought the Partition of British India creating Pakistan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lvl="1" marL="620280" indent="-221400">
              <a:lnSpc>
                <a:spcPct val="100000"/>
              </a:lnSpc>
              <a:spcBef>
                <a:spcPts val="7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Divided between East and West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2824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Trying to diversify its economy with industry and manufacturing (clothes) which has led to bad working condition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013 a garment factory collapsed and killed 1,000 people!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olitical animosity exists between the main political parties which has resulted in violence throughout the year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Religious extremism has become a concern -- normally it is a moderate country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Government has outlawed two extremist groups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angladesh has been criticized for its treatment toward women and accusations that police use torture of people in custod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51920" y="533160"/>
            <a:ext cx="85345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Life revolves around the family.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rranged marriages and large extended families.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ost people live in small villages of simple homes. 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oetry, music and dance are very popular.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angladesh is a low lying country which faces flooding and rising sea levels.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5" descr="Boys in Dhaka play in flood waters"/>
          <p:cNvPicPr/>
          <p:nvPr/>
        </p:nvPicPr>
        <p:blipFill>
          <a:blip r:embed="rId1"/>
          <a:stretch/>
        </p:blipFill>
        <p:spPr>
          <a:xfrm>
            <a:off x="0" y="633240"/>
            <a:ext cx="9296280" cy="5229360"/>
          </a:xfrm>
          <a:prstGeom prst="rect">
            <a:avLst/>
          </a:prstGeom>
          <a:ln w="0">
            <a:noFill/>
          </a:ln>
        </p:spPr>
      </p:pic>
      <p:sp>
        <p:nvSpPr>
          <p:cNvPr id="39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6" descr="Boats vie for passengers in flooded Sirajganj"/>
          <p:cNvPicPr/>
          <p:nvPr/>
        </p:nvPicPr>
        <p:blipFill>
          <a:blip r:embed="rId1"/>
          <a:stretch/>
        </p:blipFill>
        <p:spPr>
          <a:xfrm>
            <a:off x="-152280" y="1251000"/>
            <a:ext cx="9296280" cy="5229000"/>
          </a:xfrm>
          <a:prstGeom prst="rect">
            <a:avLst/>
          </a:prstGeom>
          <a:ln w="0">
            <a:noFill/>
          </a:ln>
        </p:spPr>
      </p:pic>
      <p:sp>
        <p:nvSpPr>
          <p:cNvPr id="3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0" name="Picture 5" descr="hot-016"/>
          <p:cNvPicPr/>
          <p:nvPr/>
        </p:nvPicPr>
        <p:blipFill>
          <a:blip r:embed="rId1"/>
          <a:stretch/>
        </p:blipFill>
        <p:spPr>
          <a:xfrm>
            <a:off x="838080" y="12193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40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BANGLADESH CITY STREET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5" descr="image?id=78289&amp;rendTypeId=4"/>
          <p:cNvPicPr/>
          <p:nvPr/>
        </p:nvPicPr>
        <p:blipFill>
          <a:blip r:embed="rId1"/>
          <a:stretch/>
        </p:blipFill>
        <p:spPr>
          <a:xfrm>
            <a:off x="0" y="1219320"/>
            <a:ext cx="5562720" cy="3852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population%20dinesty"/>
          <p:cNvPicPr/>
          <p:nvPr/>
        </p:nvPicPr>
        <p:blipFill>
          <a:blip r:embed="rId2"/>
          <a:stretch/>
        </p:blipFill>
        <p:spPr>
          <a:xfrm>
            <a:off x="4989600" y="2362320"/>
            <a:ext cx="4005000" cy="4286160"/>
          </a:xfrm>
          <a:prstGeom prst="rect">
            <a:avLst/>
          </a:prstGeom>
          <a:ln w="0">
            <a:noFill/>
          </a:ln>
        </p:spPr>
      </p:pic>
      <p:sp>
        <p:nvSpPr>
          <p:cNvPr id="4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BANGLADESH POVERT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7" name="Picture 5" descr="2334850757_9c87182d9e"/>
          <p:cNvPicPr/>
          <p:nvPr/>
        </p:nvPicPr>
        <p:blipFill>
          <a:blip r:embed="rId1"/>
          <a:stretch/>
        </p:blipFill>
        <p:spPr>
          <a:xfrm>
            <a:off x="380880" y="1752480"/>
            <a:ext cx="3314880" cy="4762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Slum+Dhaka"/>
          <p:cNvPicPr/>
          <p:nvPr/>
        </p:nvPicPr>
        <p:blipFill>
          <a:blip r:embed="rId2"/>
          <a:stretch/>
        </p:blipFill>
        <p:spPr>
          <a:xfrm>
            <a:off x="5257800" y="1447920"/>
            <a:ext cx="3429000" cy="5153040"/>
          </a:xfrm>
          <a:prstGeom prst="rect">
            <a:avLst/>
          </a:prstGeom>
          <a:ln w="0">
            <a:noFill/>
          </a:ln>
        </p:spPr>
      </p:pic>
      <p:sp>
        <p:nvSpPr>
          <p:cNvPr id="40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5" descr="Bamboo01"/>
          <p:cNvPicPr/>
          <p:nvPr/>
        </p:nvPicPr>
        <p:blipFill>
          <a:blip r:embed="rId1"/>
          <a:stretch/>
        </p:blipFill>
        <p:spPr>
          <a:xfrm>
            <a:off x="3581280" y="457200"/>
            <a:ext cx="5257800" cy="3551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banglahovellow"/>
          <p:cNvPicPr/>
          <p:nvPr/>
        </p:nvPicPr>
        <p:blipFill>
          <a:blip r:embed="rId2"/>
          <a:stretch/>
        </p:blipFill>
        <p:spPr>
          <a:xfrm>
            <a:off x="457200" y="28195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4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EAST AND WEST PAKISTA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9" name="Picture 5" descr="http://farm1.staticflickr.com/97/212352061_393c86b8d4.jpg"/>
          <p:cNvPicPr/>
          <p:nvPr/>
        </p:nvPicPr>
        <p:blipFill>
          <a:blip r:embed="rId1"/>
          <a:stretch/>
        </p:blipFill>
        <p:spPr>
          <a:xfrm>
            <a:off x="762120" y="13716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34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West and East shared religion (Muslim), but had ethnic differenc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971 civil war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East Pakistan won its independence and formed the country of Bangladesh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Helped by India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3276720"/>
            <a:ext cx="6629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534c"/>
                </a:solidFill>
                <a:latin typeface="Book Antiqua"/>
              </a:rPr>
              <a:t>ISLAMIC REPUBLIC OF </a:t>
            </a:r>
            <a:r>
              <a:rPr b="0" lang="en-US" sz="4800" spc="-1" strike="noStrike">
                <a:solidFill>
                  <a:srgbClr val="47534c"/>
                </a:solidFill>
                <a:latin typeface="Book Antiqua"/>
              </a:rPr>
              <a:t>PAKISTAN</a:t>
            </a:r>
            <a:endParaRPr b="0" lang="en-US" sz="48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4" name="Picture 10" descr="pakistan-flag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2898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Map of Pakistan"/>
          <p:cNvPicPr/>
          <p:nvPr/>
        </p:nvPicPr>
        <p:blipFill>
          <a:blip r:embed="rId2"/>
          <a:stretch/>
        </p:blipFill>
        <p:spPr>
          <a:xfrm>
            <a:off x="284040" y="317520"/>
            <a:ext cx="4024440" cy="2263680"/>
          </a:xfrm>
          <a:prstGeom prst="rect">
            <a:avLst/>
          </a:prstGeom>
          <a:ln w="0">
            <a:noFill/>
          </a:ln>
        </p:spPr>
      </p:pic>
      <p:sp>
        <p:nvSpPr>
          <p:cNvPr id="34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Badshahi Mosque in Lahore "/>
          <p:cNvPicPr/>
          <p:nvPr/>
        </p:nvPicPr>
        <p:blipFill>
          <a:blip r:embed="rId1"/>
          <a:stretch/>
        </p:blipFill>
        <p:spPr>
          <a:xfrm>
            <a:off x="0" y="0"/>
            <a:ext cx="5943600" cy="3724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Market in Lahore"/>
          <p:cNvPicPr/>
          <p:nvPr/>
        </p:nvPicPr>
        <p:blipFill>
          <a:blip r:embed="rId2"/>
          <a:stretch/>
        </p:blipFill>
        <p:spPr>
          <a:xfrm>
            <a:off x="4856040" y="4991040"/>
            <a:ext cx="4267440" cy="1866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Vendor reads newspaper in Pakistan market"/>
          <p:cNvPicPr/>
          <p:nvPr/>
        </p:nvPicPr>
        <p:blipFill>
          <a:blip r:embed="rId3"/>
          <a:stretch/>
        </p:blipFill>
        <p:spPr>
          <a:xfrm>
            <a:off x="6019920" y="533520"/>
            <a:ext cx="2895480" cy="3686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hristians protest against Pakistani blasphemy laws, August 2012"/>
          <p:cNvPicPr/>
          <p:nvPr/>
        </p:nvPicPr>
        <p:blipFill>
          <a:blip r:embed="rId4"/>
          <a:stretch/>
        </p:blipFill>
        <p:spPr>
          <a:xfrm>
            <a:off x="304920" y="3962520"/>
            <a:ext cx="4332240" cy="2666880"/>
          </a:xfrm>
          <a:prstGeom prst="rect">
            <a:avLst/>
          </a:prstGeom>
          <a:ln w="0">
            <a:noFill/>
          </a:ln>
        </p:spPr>
      </p:pic>
      <p:sp>
        <p:nvSpPr>
          <p:cNvPr id="35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POLITIC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6176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Corruption, inefficiency, and military rule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ilitary rule </a:t>
            </a:r>
            <a:r>
              <a:rPr b="0" lang="en-US" sz="28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failed economy and failed stability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Government can’t control the tribal regions along the Afghan border where there are Taliban linked militant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plit between Islamist militancy and modernizing secular (non religious) group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0" y="1752480"/>
            <a:ext cx="86104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became strategically important after 9/11 to the United States’ “War on Terror.”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akistan denied accusation of al-Qaeda and Taliban leaders in their tribal region and then Osama bin Laden was found there! Hurt relationship with the U.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One of the deadliest countries in the world for journalism where media is strictly controlled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Filtered for blasphemy (anti-religious), anti-state or anti-militar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KASHMIR REGION DISPUT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380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fter independence from the British and the Partition the region of Kashmir got to decided which country they wanted to be a part of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rince of Kashmir was Hindu and wanted to go with India; majority of people are Muslim and wanted to go with Pakista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Region split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2/3 is India and 1/3 is Pakista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  <a:ea typeface="Arial"/>
              </a:rPr>
              <a:t>Lindsey Barnes, Helena High 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1:40:00Z</dcterms:created>
  <dc:creator>Lindsey Barnes</dc:creator>
  <dc:description/>
  <dc:language>en-US</dc:language>
  <cp:lastModifiedBy>Barnes, Lindsey</cp:lastModifiedBy>
  <cp:lastPrinted>2011-12-22T21:42:00Z</cp:lastPrinted>
  <dcterms:modified xsi:type="dcterms:W3CDTF">2016-02-23T16:26:28Z</dcterms:modified>
  <cp:revision>29</cp:revision>
  <dc:subject/>
  <dc:title>Chapter 25, Section 2</dc:title>
</cp:coreProperties>
</file>