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268-976E-4BB9-91AB-60CB3671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A27-7F8C-4233-A6BF-68D8231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303-94A1-40C9-8225-5716A7BB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E7D-65B5-4ED9-AB9A-A76703EB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BB29-4C1E-4156-B074-D55911F2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0EE9-1408-494B-B1B2-C0749980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09F7-2DED-457A-A0E4-DA94CD39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E3AB-6A0D-4A6E-90B1-63412DA1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F11A-E914-434F-ABAC-AEA79A13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2E7A-3D1E-491C-A452-E1DCEAF9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2DAE-307C-4345-AC8E-8BCF2884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E6C-CAF4-4608-9DC4-9DF0D8A2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3AB9-B521-4D02-A76B-2C6F667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4521-ED69-4B70-8225-5EF1C7A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9AD2-C1A5-4399-9CE4-0792D828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61AC-C8CF-4E3F-941F-6A198563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12E1-4664-4CB9-9A7F-3FC45C08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360-69D8-4203-B8AA-D4520091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64E-0600-4832-81A7-8A13CB73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BB1-1B01-4A28-9B29-719B5EE4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3C3-10EB-44F8-BDEF-D052FD3B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4FD-DC03-4EF5-8374-8094BD76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ABB-8D1B-449C-BC83-D3D62AE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788-B3E5-4839-95E3-B3F1E6D1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39720" cy="6856560"/>
            <a:chOff x="0" y="0"/>
            <a:chExt cx="153972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>
              <a:off x="1219320" y="3586320"/>
              <a:ext cx="320400" cy="1831680"/>
            </a:xfrm>
            <a:custGeom>
              <a:avLst/>
              <a:gdLst/>
              <a:ahLst/>
              <a:rect l="l" t="t" r="r" b="b"/>
              <a:pathLst>
                <a:path fill="none" w="22354" h="43200">
                  <a:moveTo>
                    <a:pt x="0" y="13"/>
                  </a:moveTo>
                  <a:cubicBezTo>
                    <a:pt x="251" y="4"/>
                    <a:pt x="502" y="0"/>
                    <a:pt x="754" y="0"/>
                  </a:cubicBezTo>
                  <a:cubicBezTo>
                    <a:pt x="12683" y="0"/>
                    <a:pt x="22354" y="9670"/>
                    <a:pt x="22354" y="21600"/>
                  </a:cubicBezTo>
                  <a:cubicBezTo>
                    <a:pt x="22354" y="-32007"/>
                    <a:pt x="12683" y="-22336"/>
                    <a:pt x="754" y="-22336"/>
                  </a:cubicBezTo>
                </a:path>
                <a:path stroke="0" w="22354" h="43200">
                  <a:moveTo>
                    <a:pt x="0" y="13"/>
                  </a:moveTo>
                  <a:cubicBezTo>
                    <a:pt x="251" y="4"/>
                    <a:pt x="502" y="0"/>
                    <a:pt x="754" y="0"/>
                  </a:cubicBezTo>
                  <a:cubicBezTo>
                    <a:pt x="12683" y="0"/>
                    <a:pt x="22354" y="9670"/>
                    <a:pt x="22354" y="21600"/>
                  </a:cubicBezTo>
                  <a:cubicBezTo>
                    <a:pt x="22354" y="-32007"/>
                    <a:pt x="12683" y="-22336"/>
                    <a:pt x="754" y="-22336"/>
                  </a:cubicBezTo>
                  <a:lnTo>
                    <a:pt x="754" y="2160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808F-CC0F-4555-BC63-96A459BB3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Group 3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Group 4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AutoShape 5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AutoShape 6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Arc 11"/>
                <p:cNvSpPr/>
                <p:nvPr/>
              </p:nvSpPr>
              <p:spPr>
                <a:xfrm rot="10485000">
                  <a:off x="2004120" y="355680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6B58-6D84-46AA-9DCA-CB2D0BC6AA4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ul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acial subcultures in U.S. are Caucasian, African-American, and Asi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can-American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4 million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from inner cities to subu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from Northern cities to 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African-American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-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popular or leading b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ly to purchase private-label and gener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loy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ewer coupons than Caucas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mor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African-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 appeal ads for products that broadly appeal to all ethnic groups, including Afric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appeals for products specifically developed for Afric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red mediums are radio, African-American magazines, African-American cable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an-American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9 million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more than 29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East to Tai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ncy to live near entry ports; overwhelmingly ur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n household income $40,600 (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iest subgroup: Asian In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an American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family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ndust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e for excellence in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e to achieve high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employed in professional, managerial, or technical occup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ption decisions tend to be male-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to patronize Asian sh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loy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Asian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sian America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iv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h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-based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message appeals on desire to achi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79 and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-22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boomers, Millenium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fferent to many well-known b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vy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k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66-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-33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oy life, have flexible 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satisfaction more important than sa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 good brand names, but not necessarily design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newspaper r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46-19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-55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6 million (40% of adult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-s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ption-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boomers by age: younger and 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luent boomers--yup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ubcul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tinct cultural group that exists as an identifiable segment within a larger, more complex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mogeneous segment within a heterogeneous national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ure Ad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-65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70% of nation’s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market to--TV, newspapers,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+ age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ing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interests, opinions, and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tive age vs. chronological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Older 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/value 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-p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to 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d in to mass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ever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redit cards infrequently relative to other age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Older 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by attitudes or lifestyl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areful not to embarrass older consumers about their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diversity of age cohort in visual 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stere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for sensory defic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frequency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ime for informa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int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o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Between Culture and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2819520" y="2743200"/>
            <a:ext cx="2819160" cy="274320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800600" y="2743200"/>
            <a:ext cx="2819520" cy="2743200"/>
          </a:xfrm>
          <a:prstGeom prst="ellipse">
            <a:avLst/>
          </a:prstGeom>
          <a:solidFill>
            <a:srgbClr val="ff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cul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rc 12"/>
          <p:cNvSpPr/>
          <p:nvPr/>
        </p:nvSpPr>
        <p:spPr>
          <a:xfrm>
            <a:off x="5181480" y="3124080"/>
            <a:ext cx="457200" cy="99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rc 14"/>
          <p:cNvSpPr/>
          <p:nvPr/>
        </p:nvSpPr>
        <p:spPr>
          <a:xfrm flipV="1">
            <a:off x="5181480" y="4114800"/>
            <a:ext cx="4572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4419720" y="3124080"/>
            <a:ext cx="1447560" cy="19814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tiz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Subculture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2057400" y="1766880"/>
          <a:ext cx="6629400" cy="49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66880"/>
                    <a:ext cx="662940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subculture identified on the basis of nationality  in the U.S. is the Hispanic sub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Hisp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ee of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 million people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% of Mexic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uerto Ric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% of Cub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 from Spain, Central American, or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Hispanic”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well-known or familiar b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brands perceived to be prestig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hion-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to shop at smaller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berate bu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brands advertised by their ethnic-group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to buy what their parents b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Market,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 to be negative about marketing practices and government intervention in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1/3 have credi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0% have checking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ly using cou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price-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fresh to frozen or prep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Hisp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anish-language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, small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ze prestigiousne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coupons,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tising should tie in to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03:34:48Z</dcterms:created>
  <dc:creator>Jim Palan</dc:creator>
  <dc:description/>
  <dc:language>en-US</dc:language>
  <cp:lastModifiedBy>Kurt Guemmer</cp:lastModifiedBy>
  <dcterms:modified xsi:type="dcterms:W3CDTF">2016-04-07T00:30:45Z</dcterms:modified>
  <cp:revision>12</cp:revision>
  <dc:subject/>
  <dc:title>Subcultures</dc:title>
</cp:coreProperties>
</file>