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450A-409E-48E6-A73D-FFF003BC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BD93-418B-4A75-AD94-745256A6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F78-3082-4E44-905E-0C3C4403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3C0-F818-4484-8EC8-FDC2DF7C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B966-3ABC-40E6-8FA5-CD69DD69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3A48-2FEC-470F-9A7B-4490D865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EADF-8B6E-4AB0-BED9-E05475EC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2A96-3966-48C2-A0A4-2981794F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C377-6764-44C1-B0C4-E19D247B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4505-27BD-440C-B626-AFCF67AF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B831-69FE-4C50-987E-6A7A3E96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513-C83A-4B40-9D81-2EBE0645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873E-9B46-44F9-A2B1-188DC1FB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2D34-4E45-4EDE-8D05-21AF344F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3D57-668E-4A50-9FFA-333A534B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2993-39C8-4BDD-B73A-2ECB5BBD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9BD8-F2E1-4D89-A908-8AC8E23D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5703-9FB1-4FA9-B5DF-E36B07FE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7750-12CA-4EF9-BEB7-DFC1898F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2302-ED83-45C4-A9A0-764F11D3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793-AFE8-4027-BEDC-FA3E99F6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A493-D845-4691-B5B6-6B59F2FC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2C36-1FAF-4E4B-AF07-BDC04C55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366-AB0F-4600-A1AB-7DD0D7EB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539720" cy="6856560"/>
            <a:chOff x="0" y="0"/>
            <a:chExt cx="153972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Arc 12"/>
            <p:cNvSpPr/>
            <p:nvPr/>
          </p:nvSpPr>
          <p:spPr>
            <a:xfrm>
              <a:off x="1219320" y="3586320"/>
              <a:ext cx="320400" cy="1831680"/>
            </a:xfrm>
            <a:custGeom>
              <a:avLst/>
              <a:gdLst/>
              <a:ahLst/>
              <a:rect l="l" t="t" r="r" b="b"/>
              <a:pathLst>
                <a:path fill="none" w="22354" h="43200">
                  <a:moveTo>
                    <a:pt x="0" y="13"/>
                  </a:moveTo>
                  <a:cubicBezTo>
                    <a:pt x="251" y="4"/>
                    <a:pt x="502" y="0"/>
                    <a:pt x="754" y="0"/>
                  </a:cubicBezTo>
                  <a:cubicBezTo>
                    <a:pt x="12683" y="0"/>
                    <a:pt x="22354" y="9670"/>
                    <a:pt x="22354" y="21600"/>
                  </a:cubicBezTo>
                  <a:cubicBezTo>
                    <a:pt x="22354" y="-32007"/>
                    <a:pt x="12683" y="-22336"/>
                    <a:pt x="754" y="-22336"/>
                  </a:cubicBezTo>
                </a:path>
                <a:path stroke="0" w="22354" h="43200">
                  <a:moveTo>
                    <a:pt x="0" y="13"/>
                  </a:moveTo>
                  <a:cubicBezTo>
                    <a:pt x="251" y="4"/>
                    <a:pt x="502" y="0"/>
                    <a:pt x="754" y="0"/>
                  </a:cubicBezTo>
                  <a:cubicBezTo>
                    <a:pt x="12683" y="0"/>
                    <a:pt x="22354" y="9670"/>
                    <a:pt x="22354" y="21600"/>
                  </a:cubicBezTo>
                  <a:cubicBezTo>
                    <a:pt x="22354" y="-32007"/>
                    <a:pt x="12683" y="-22336"/>
                    <a:pt x="754" y="-22336"/>
                  </a:cubicBezTo>
                  <a:lnTo>
                    <a:pt x="754" y="2160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C61A-ED05-4F3D-8315-17A2D22B4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3" name="Group 3"/>
            <p:cNvGrpSpPr/>
            <p:nvPr/>
          </p:nvGrpSpPr>
          <p:grpSpPr>
            <a:xfrm>
              <a:off x="-1402200" y="-608760"/>
              <a:ext cx="9065520" cy="8964720"/>
              <a:chOff x="-1402200" y="-608760"/>
              <a:chExt cx="9065520" cy="8964720"/>
            </a:xfrm>
          </p:grpSpPr>
          <p:grpSp>
            <p:nvGrpSpPr>
              <p:cNvPr id="54" name="Group 4"/>
              <p:cNvGrpSpPr/>
              <p:nvPr/>
            </p:nvGrpSpPr>
            <p:grpSpPr>
              <a:xfrm>
                <a:off x="-1402200" y="-608760"/>
                <a:ext cx="9065520" cy="8964720"/>
                <a:chOff x="-1402200" y="-608760"/>
                <a:chExt cx="9065520" cy="8964720"/>
              </a:xfrm>
            </p:grpSpPr>
            <p:sp>
              <p:nvSpPr>
                <p:cNvPr id="55" name="AutoShape 5"/>
                <p:cNvSpPr/>
                <p:nvPr/>
              </p:nvSpPr>
              <p:spPr>
                <a:xfrm flipH="1" rot="12360000">
                  <a:off x="-294840" y="557280"/>
                  <a:ext cx="6851520" cy="663228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AutoShape 6"/>
                <p:cNvSpPr/>
                <p:nvPr/>
              </p:nvSpPr>
              <p:spPr>
                <a:xfrm flipH="1" rot="12360000">
                  <a:off x="1101600" y="190944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Arc 11"/>
                <p:cNvSpPr/>
                <p:nvPr/>
              </p:nvSpPr>
              <p:spPr>
                <a:xfrm rot="10485000">
                  <a:off x="2004120" y="355680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87AD-085D-4F6F-857C-D394A7CC8E7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cul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racial subcultures in U.S. are Caucasian, African-American, and Asian-Amer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rican-American Sub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4 million (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ng from inner cities to subur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ng from Northern cities to the S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middl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African-American 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-cons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popular or leading br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ikely to purchase private-label and generic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d loy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fewer coupons than Caucas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more advert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to African-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 appeal ads for products that broadly appeal to all ethnic groups, including African-Amer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ed appeals for products specifically developed for African-Amer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red mediums are radio, African-American magazines, African-American cable 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ian-American Sub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9 million (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more than 29 differen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 East to Taiw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ncy to live near entry ports; overwhelmingly ur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an household income $40,600 (19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iest subgroup: Asian In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ian American 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family ori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indust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ve for excellence in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ve to achieve highe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employed in professional, managerial, or technical occup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ption decisions tend to be male-ori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ly to patronize Asian sh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d loy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to Asian 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sian American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ativ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he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mily-based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message appeals on desire to achi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on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n between 1979 and 19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-22 year 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ho boomers, Millenium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fferent to many well-known br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vy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k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on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n between 1966-19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-33 year 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6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oy life, have flexible lifesty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satisfaction more important than sa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 good brand names, but not necessarily designer lab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newspaper r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by Boo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n between 1946-19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7-55 year 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6 million (40% of adult popu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nd-se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ption-ori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 boomers by age: younger and o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fluent boomers--yup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ubcul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istinct cultural group that exists as an identifiable segment within a larger, more complex soc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omogeneous segment within a heterogeneous national soc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ure Ad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6-65 year 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70% of nation’s w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en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market to--TV, newspapers, 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er 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5+ age 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ing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e interests, opinions, and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gnitive age vs. chronological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Older Consu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/value cons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-pr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to 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ned in to mass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every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redit cards infrequently relative to other age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to Older Consu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 by attitudes or lifestyl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careful not to embarrass older consumers about their 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diversity of age cohort in visual 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stere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for sensory defic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frequency s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time for information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rint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x 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 id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wo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ation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pping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 Between Culture and Sub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2819520" y="2743200"/>
            <a:ext cx="2819160" cy="2743200"/>
          </a:xfrm>
          <a:prstGeom prst="ellipse">
            <a:avLst/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cul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t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pa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800600" y="2743200"/>
            <a:ext cx="2819520" cy="2743200"/>
          </a:xfrm>
          <a:prstGeom prst="ellipse">
            <a:avLst/>
          </a:prstGeom>
          <a:solidFill>
            <a:srgbClr val="ff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cultu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t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rc 12"/>
          <p:cNvSpPr/>
          <p:nvPr/>
        </p:nvSpPr>
        <p:spPr>
          <a:xfrm>
            <a:off x="5181480" y="3124080"/>
            <a:ext cx="457200" cy="990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rc 14"/>
          <p:cNvSpPr/>
          <p:nvPr/>
        </p:nvSpPr>
        <p:spPr>
          <a:xfrm flipV="1">
            <a:off x="5181480" y="4114800"/>
            <a:ext cx="4572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5"/>
          <p:cNvSpPr/>
          <p:nvPr/>
        </p:nvSpPr>
        <p:spPr>
          <a:xfrm>
            <a:off x="4419720" y="3124080"/>
            <a:ext cx="1447560" cy="19814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i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l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t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.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tiz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Subculture Categ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5"/>
          <p:cNvGraphicFramePr/>
          <p:nvPr/>
        </p:nvGraphicFramePr>
        <p:xfrm>
          <a:off x="2057400" y="1766880"/>
          <a:ext cx="6629400" cy="49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66880"/>
                    <a:ext cx="662940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subculture identified on the basis of nationality  in the U.S. is the Hispanic subcul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ing Hispa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ry of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gree of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panic Sub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2 million people (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4% of Mexican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Puerto Rican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% of Cuban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der from Spain, Central American, or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-Hispanic” middl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panic 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well-known or familiar br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y brands perceived to be prestig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hion-cons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to shop at smaller 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iberate bu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y brands advertised by their ethnic-group 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ly to buy what their parents bo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panic Market,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 to be negative about marketing practices and government intervention in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 1/3 have credit c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30% have checking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ly using coup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price-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fresh to frozen or prepared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to Hispa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anish-language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, small 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hasize prestigiousness of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er coupons, 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tising should tie in to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03:34:48Z</dcterms:created>
  <dc:creator>Jim Palan</dc:creator>
  <dc:description/>
  <dc:language>en-US</dc:language>
  <cp:lastModifiedBy>Kurt Guemmer</cp:lastModifiedBy>
  <dcterms:modified xsi:type="dcterms:W3CDTF">2016-04-07T00:30:45Z</dcterms:modified>
  <cp:revision>12</cp:revision>
  <dc:subject/>
  <dc:title>Subcultures</dc:title>
</cp:coreProperties>
</file>