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374-E4B6-49ED-BD28-3773C991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B8D-DC30-4ADA-9FB3-C02897C4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221-EAD4-439E-A2C9-04AA6C75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7A0-172D-497E-A45F-A709533C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2C6B-4718-4958-9C21-553C5EAB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BCEC-6A70-433E-A018-2D566E8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45B5-51C5-43CE-B04A-D69CC9B9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61B-F92A-4A51-B109-3717AC60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2ACA-BB29-4E4C-ADB7-E970E83C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A776-F609-40DC-A586-406B1180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6D0-E3DC-446C-99AC-DFD7DA4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DC5-1D92-427B-B60A-187D56A6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A82D-4044-405A-9F20-8938283F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4B01-C719-46E0-9341-90661B3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B4C2-831E-4E8F-A580-08BE2AF7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A234-D8CE-48AD-B068-694287EC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1CF9-BF29-41FD-A4FD-18846C4A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AF1-467F-4237-8494-57A6D6E4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522-5168-4B20-BF71-16C51AF7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250-3FAA-4E9A-95E6-14AF0FC8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4DD-BE31-427C-879D-F55925BA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E78-A9A7-4AE4-938B-B4CE660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85B-253D-4EDE-81EA-95B1D6E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07C-273E-4A2C-B94E-093AA9F4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39720" cy="6856560"/>
            <a:chOff x="0" y="0"/>
            <a:chExt cx="153972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>
              <a:off x="1219320" y="3586320"/>
              <a:ext cx="320400" cy="1831680"/>
            </a:xfrm>
            <a:custGeom>
              <a:avLst/>
              <a:gdLst/>
              <a:ahLst/>
              <a:rect l="l" t="t" r="r" b="b"/>
              <a:pathLst>
                <a:path fill="none" w="22354" h="43200">
                  <a:moveTo>
                    <a:pt x="0" y="13"/>
                  </a:moveTo>
                  <a:cubicBezTo>
                    <a:pt x="251" y="4"/>
                    <a:pt x="502" y="0"/>
                    <a:pt x="754" y="0"/>
                  </a:cubicBezTo>
                  <a:cubicBezTo>
                    <a:pt x="12683" y="0"/>
                    <a:pt x="22354" y="9670"/>
                    <a:pt x="22354" y="21600"/>
                  </a:cubicBezTo>
                  <a:cubicBezTo>
                    <a:pt x="22354" y="-32007"/>
                    <a:pt x="12683" y="-22336"/>
                    <a:pt x="754" y="-22336"/>
                  </a:cubicBezTo>
                </a:path>
                <a:path stroke="0" w="22354" h="43200">
                  <a:moveTo>
                    <a:pt x="0" y="13"/>
                  </a:moveTo>
                  <a:cubicBezTo>
                    <a:pt x="251" y="4"/>
                    <a:pt x="502" y="0"/>
                    <a:pt x="754" y="0"/>
                  </a:cubicBezTo>
                  <a:cubicBezTo>
                    <a:pt x="12683" y="0"/>
                    <a:pt x="22354" y="9670"/>
                    <a:pt x="22354" y="21600"/>
                  </a:cubicBezTo>
                  <a:cubicBezTo>
                    <a:pt x="22354" y="-32007"/>
                    <a:pt x="12683" y="-22336"/>
                    <a:pt x="754" y="-22336"/>
                  </a:cubicBezTo>
                  <a:lnTo>
                    <a:pt x="754" y="2160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BF69-B303-4A89-A605-5F7AF502C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Group 3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Group 4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AutoShape 5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AutoShape 6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Arc 11"/>
                <p:cNvSpPr/>
                <p:nvPr/>
              </p:nvSpPr>
              <p:spPr>
                <a:xfrm rot="10485000">
                  <a:off x="2004120" y="355680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585-7B89-4105-82B0-7C8AA6DDEEF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ul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acial subcultures in U.S. are Caucasian, African-American, and Asi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can-American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4 million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from inner cities to subu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from Northern cities to 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African-American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-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popular or leading b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ly to purchase private-label and gener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loy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ewer coupons than Caucas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mor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African-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 appeal ads for products that broadly appeal to all ethnic groups, including Afric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appeals for products specifically developed for Afric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red mediums are radio, African-American magazines, African-American cable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an-American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9 million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more than 29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East to Tai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ncy to live near entry ports; overwhelmingly ur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n household income $40,600 (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iest subgroup: Asian In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an American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family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ndust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e for excellence in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e to achieve high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employed in professional, managerial, or technical occup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ption decisions tend to be male-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to patronize Asian sh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loy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Asian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sian America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iv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h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-based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message appeals on desire to achi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79 and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-22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boomers, Millenium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fferent to many well-known b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vy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k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66-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-33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oy life, have flexible 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satisfaction more important than sa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 good brand names, but not necessarily design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newspaper r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46-19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-55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6 million (40% of adult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-s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ption-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boomers by age: younger and 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luent boomers--yup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ubcul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tinct cultural group that exists as an identifiable segment within a larger, more complex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mogeneous segment within a heterogeneous national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ure Ad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-65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70% of nation’s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market to--TV, newspapers,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+ age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ing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interests, opinions, and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tive age vs. chronological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Older 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/value 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-p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to 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d in to mass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ever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redit cards infrequently relative to other age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Older 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by attitudes or lifestyl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areful not to embarrass older consumers about their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diversity of age cohort in visual 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stere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for sensory defic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frequency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ime for informa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int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o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Between Culture and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2819520" y="2743200"/>
            <a:ext cx="2819160" cy="274320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800600" y="2743200"/>
            <a:ext cx="2819520" cy="2743200"/>
          </a:xfrm>
          <a:prstGeom prst="ellipse">
            <a:avLst/>
          </a:prstGeom>
          <a:solidFill>
            <a:srgbClr val="ff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cul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rc 12"/>
          <p:cNvSpPr/>
          <p:nvPr/>
        </p:nvSpPr>
        <p:spPr>
          <a:xfrm>
            <a:off x="5181480" y="3124080"/>
            <a:ext cx="457200" cy="99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rc 14"/>
          <p:cNvSpPr/>
          <p:nvPr/>
        </p:nvSpPr>
        <p:spPr>
          <a:xfrm flipV="1">
            <a:off x="5181480" y="4114800"/>
            <a:ext cx="4572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4419720" y="3124080"/>
            <a:ext cx="1447560" cy="19814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tiz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Subculture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2057400" y="1766880"/>
          <a:ext cx="6629400" cy="49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66880"/>
                    <a:ext cx="662940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subculture identified on the basis of nationality  in the U.S. is the Hispanic sub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Hisp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ee of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 million people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% of Mexic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uerto Ric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% of Cub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 from Spain, Central American, or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Hispanic”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well-known or familiar b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brands perceived to be prestig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hion-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to shop at smaller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berate bu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brands advertised by their ethnic-group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to buy what their parents b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Market,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 to be negative about marketing practices and government intervention in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1/3 have credi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0% have checking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ly using cou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price-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fresh to frozen or prep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Hisp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anish-language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, small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ze prestigiousne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coupons,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tising should tie in to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03:34:48Z</dcterms:created>
  <dc:creator>Jim Palan</dc:creator>
  <dc:description/>
  <dc:language>en-US</dc:language>
  <cp:lastModifiedBy>Kurt Guemmer</cp:lastModifiedBy>
  <dcterms:modified xsi:type="dcterms:W3CDTF">2016-04-07T00:30:45Z</dcterms:modified>
  <cp:revision>12</cp:revision>
  <dc:subject/>
  <dc:title>Subcultures</dc:title>
</cp:coreProperties>
</file>